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3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10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8.jpeg" ContentType="image/jpeg"/>
  <Override PartName="/ppt/media/image44.jpeg" ContentType="image/jpeg"/>
  <Override PartName="/ppt/media/image43.jpeg" ContentType="image/jpeg"/>
  <Override PartName="/ppt/media/image35.jpeg" ContentType="image/jpeg"/>
  <Override PartName="/ppt/media/image47.png" ContentType="image/png"/>
  <Override PartName="/ppt/media/image45.jpeg" ContentType="image/jpeg"/>
  <Override PartName="/ppt/media/image46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36.png" ContentType="image/png"/>
  <Override PartName="/ppt/media/image6.png" ContentType="image/pn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889C4-24E3-4547-A947-BA4F9F8B3B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B451D-4317-4334-9B76-AC412AA9B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7ECDF-68A0-4F7E-8AF4-89E263AB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30EEB-306F-4F32-B2AC-57FEE05C3F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7720" y="357120"/>
            <a:ext cx="80773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0095B-4C50-4425-910E-AA80128CD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1AD7AB-A68D-4CA0-A162-C0B6C2DD1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B8E8E7-207C-43CE-88B7-6F8C1AB92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AB2C99-4A76-4BDC-A8E2-98B31F161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7E5FA5-02C6-4921-8695-E62EC9912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61ED41-A00B-4EF4-8D87-1D235EF1C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8F2D6-74F4-4E53-9B9D-3F0774F25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837720" y="357120"/>
            <a:ext cx="80773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03CDB5-56A1-476C-9276-ABFE5F6E6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BE409D-C213-4A2E-B3E0-7644C2D2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69C05E-A9AA-474C-8EB7-A2896363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148E96-02EA-4A2B-9C22-0E958ED6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CD3E97-6954-4D76-90F1-9566BA4D1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CFB17F-CA9D-49C4-BF4D-6FA716086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4160EB-6E7E-4FCA-AA51-3CD30F05B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60E52-AA6B-4C00-9B4E-341A4B3F7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4E063-D8B3-4C61-A4C9-7C09AA06C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37720" y="357120"/>
            <a:ext cx="80773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2D0E2-C97A-4A52-8E19-A4313CF3D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E5FC1-BCCF-45C7-B1A2-367EEE190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92AD2-713A-4322-A3F6-ED460727C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3E223-C39F-43FC-AAD8-1345F499E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1236600"/>
          </a:xfrm>
          <a:prstGeom prst="rect">
            <a:avLst/>
          </a:prstGeom>
          <a:ln w="0">
            <a:noFill/>
          </a:ln>
        </p:spPr>
      </p:pic>
      <p:sp>
        <p:nvSpPr>
          <p:cNvPr id="1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708D3-581E-4DA6-808D-E3E725A4CA4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357120"/>
            <a:ext cx="80773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5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7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8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2" name="Group 95"/>
            <p:cNvGrpSpPr/>
            <p:nvPr/>
          </p:nvGrpSpPr>
          <p:grpSpPr>
            <a:xfrm>
              <a:off x="28440" y="5050800"/>
              <a:ext cx="9115560" cy="1806840"/>
              <a:chOff x="28440" y="5050800"/>
              <a:chExt cx="9115560" cy="1806840"/>
            </a:xfrm>
          </p:grpSpPr>
          <p:sp>
            <p:nvSpPr>
              <p:cNvPr id="53" name="Rectangle 96"/>
              <p:cNvSpPr/>
              <p:nvPr/>
            </p:nvSpPr>
            <p:spPr>
              <a:xfrm>
                <a:off x="28440" y="5050800"/>
                <a:ext cx="9115560" cy="18068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" name="Rectangle 97"/>
              <p:cNvSpPr/>
              <p:nvPr/>
            </p:nvSpPr>
            <p:spPr>
              <a:xfrm>
                <a:off x="28440" y="50508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5" name="Group 98"/>
            <p:cNvGrpSpPr/>
            <p:nvPr/>
          </p:nvGrpSpPr>
          <p:grpSpPr>
            <a:xfrm>
              <a:off x="0" y="4689360"/>
              <a:ext cx="9097920" cy="405720"/>
              <a:chOff x="0" y="4689360"/>
              <a:chExt cx="9097920" cy="405720"/>
            </a:xfrm>
          </p:grpSpPr>
          <p:sp>
            <p:nvSpPr>
              <p:cNvPr id="56" name="Freeform 99"/>
              <p:cNvSpPr/>
              <p:nvPr/>
            </p:nvSpPr>
            <p:spPr>
              <a:xfrm flipV="1">
                <a:off x="0" y="4689000"/>
                <a:ext cx="9097920" cy="347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Freeform 100"/>
              <p:cNvSpPr/>
              <p:nvPr/>
            </p:nvSpPr>
            <p:spPr>
              <a:xfrm flipV="1">
                <a:off x="0" y="4732560"/>
                <a:ext cx="9097920" cy="36216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8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59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4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37720" y="357120"/>
            <a:ext cx="80773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96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1236600"/>
          </a:xfrm>
          <a:prstGeom prst="rect">
            <a:avLst/>
          </a:prstGeom>
          <a:ln w="0">
            <a:noFill/>
          </a:ln>
        </p:spPr>
      </p:pic>
      <p:sp>
        <p:nvSpPr>
          <p:cNvPr id="104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6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837720" y="357120"/>
            <a:ext cx="80773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3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4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5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40E49-F97A-4CA3-93CF-B4FA06E5F65E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" Target="slide5.xml"/><Relationship Id="rId8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七章  舒适与安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56760" y="1213920"/>
            <a:ext cx="442908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屈膝仰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13840" y="2071800"/>
            <a:ext cx="5000760" cy="39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胸腹部检査的患者，可使肌肉放松，便于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行导尿术、会阴冲洗时，便于暴露操作部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5429160" y="4214880"/>
            <a:ext cx="31435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屈膝仰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8" name="剪贴画占位符 7" descr="图7-3 屈膝仰卧位.jpg"/>
          <p:cNvPicPr/>
          <p:nvPr/>
        </p:nvPicPr>
        <p:blipFill>
          <a:blip r:embed="rId3"/>
          <a:stretch/>
        </p:blipFill>
        <p:spPr>
          <a:xfrm>
            <a:off x="5214960" y="2428920"/>
            <a:ext cx="347328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477" name="WordArt 3" descr=""/>
          <p:cNvPicPr/>
          <p:nvPr/>
        </p:nvPicPr>
        <p:blipFill>
          <a:blip r:embed="rId1"/>
          <a:stretch/>
        </p:blipFill>
        <p:spPr>
          <a:xfrm>
            <a:off x="1689120" y="2779560"/>
            <a:ext cx="5772240" cy="107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814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二）侧卧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side-lying position</a:t>
            </a:r>
            <a:r>
              <a:rPr b="0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142920" y="1643040"/>
            <a:ext cx="5429160" cy="39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灌肠，肛门检査，配合胃镜、肠镜检査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压疮，侧卧位与平卧位交替，避免局部组织长期受压，便于护理局部受压部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臀部肌内注射时，下腿弯曲，上腿伸直，可放松注射部位肌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1" name="图片 6" descr="图7-4 侧卧位.jpg"/>
          <p:cNvPicPr/>
          <p:nvPr/>
        </p:nvPicPr>
        <p:blipFill>
          <a:blip r:embed="rId4"/>
          <a:stretch/>
        </p:blipFill>
        <p:spPr>
          <a:xfrm>
            <a:off x="5572080" y="2786040"/>
            <a:ext cx="3429000" cy="217008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2"/>
          <p:cNvSpPr/>
          <p:nvPr/>
        </p:nvSpPr>
        <p:spPr>
          <a:xfrm>
            <a:off x="6000840" y="4857840"/>
            <a:ext cx="25002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侧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56760" y="1214280"/>
            <a:ext cx="7000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三）半坐卧位</a:t>
            </a:r>
            <a:r>
              <a:rPr b="0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fowler position</a:t>
            </a:r>
            <a:r>
              <a:rPr b="0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71680" y="2143080"/>
            <a:ext cx="819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某些面部及颈部手术后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胸腔疾病、胸部创伤或心脏疾病引起呼吸困难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腹腔、盆腔手术后或有炎症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恢复期体质虚弱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86" name="内容占位符 4" descr="图7-5 半坐卧位（摇床法）.jpg"/>
          <p:cNvPicPr/>
          <p:nvPr/>
        </p:nvPicPr>
        <p:blipFill>
          <a:blip r:embed="rId1"/>
          <a:stretch/>
        </p:blipFill>
        <p:spPr>
          <a:xfrm>
            <a:off x="428760" y="1928880"/>
            <a:ext cx="3882960" cy="2786040"/>
          </a:xfrm>
          <a:prstGeom prst="rect">
            <a:avLst/>
          </a:prstGeom>
          <a:ln w="0">
            <a:noFill/>
          </a:ln>
        </p:spPr>
      </p:pic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8" name="图片 5" descr="图7-6 半坐卧位（靠背架法）.jpg"/>
          <p:cNvPicPr/>
          <p:nvPr/>
        </p:nvPicPr>
        <p:blipFill>
          <a:blip r:embed="rId2"/>
          <a:stretch/>
        </p:blipFill>
        <p:spPr>
          <a:xfrm>
            <a:off x="5072040" y="2000160"/>
            <a:ext cx="3649680" cy="271476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2"/>
          <p:cNvSpPr/>
          <p:nvPr/>
        </p:nvSpPr>
        <p:spPr>
          <a:xfrm>
            <a:off x="4786200" y="4857840"/>
            <a:ext cx="40006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半坐卧位（靠背架法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428760" y="4857840"/>
            <a:ext cx="40719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半坐卧位（摇床法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85840" y="13572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四）端坐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（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sitting position</a:t>
            </a:r>
            <a:r>
              <a:rPr b="0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56760" y="2142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支气管哮喘发作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力衰竭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包积液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3" name="图片 4" descr="图7-7 端坐位.jpg"/>
          <p:cNvPicPr/>
          <p:nvPr/>
        </p:nvPicPr>
        <p:blipFill>
          <a:blip r:embed="rId4"/>
          <a:stretch/>
        </p:blipFill>
        <p:spPr>
          <a:xfrm>
            <a:off x="4357800" y="2286000"/>
            <a:ext cx="4316400" cy="25020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2"/>
          <p:cNvSpPr/>
          <p:nvPr/>
        </p:nvSpPr>
        <p:spPr>
          <a:xfrm>
            <a:off x="4786200" y="4857840"/>
            <a:ext cx="40006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端坐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5840" y="1214280"/>
            <a:ext cx="6858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五）俯卧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（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prone position</a:t>
            </a:r>
            <a:r>
              <a:rPr b="0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57120" y="1785600"/>
            <a:ext cx="5143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腰、背部检查或配合胰、胆管造影检查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脊椎手术后或腰、背、臀部有伤口，不能平卧或侧卧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胃肠胀气所致腹痛的患者。采取俯卧位，可使腹腔容积增大，缓解胃肠胀气所致的腹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5929200" y="4714920"/>
            <a:ext cx="25718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俯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8" name="图片 7" descr="图7-8 俯卧位.jpg"/>
          <p:cNvPicPr/>
          <p:nvPr/>
        </p:nvPicPr>
        <p:blipFill>
          <a:blip r:embed="rId4"/>
          <a:stretch/>
        </p:blipFill>
        <p:spPr>
          <a:xfrm>
            <a:off x="5357880" y="2500200"/>
            <a:ext cx="35589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3840" y="999720"/>
            <a:ext cx="8929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六）头低足高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（</a:t>
            </a:r>
            <a:r>
              <a:rPr b="0" lang="en-US" sz="3300" spc="-1" strike="noStrike">
                <a:solidFill>
                  <a:srgbClr val="0d0d0d"/>
                </a:solidFill>
                <a:latin typeface="Times New Roman"/>
                <a:ea typeface="楷体"/>
              </a:rPr>
              <a:t>trendelenburg position</a:t>
            </a:r>
            <a:r>
              <a:rPr b="0" lang="zh-CN" sz="3300" spc="-1" strike="noStrike">
                <a:solidFill>
                  <a:srgbClr val="0d0d0d"/>
                </a:solidFill>
                <a:latin typeface="Times New Roman"/>
                <a:ea typeface="楷体"/>
              </a:rPr>
              <a:t>）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85840" y="17856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肺部分泌物引流，使痰液易于咳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十二指肠引流术，有利于胆汁引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跟骨或胫骨结节牵引时，利用人体重力作反牵引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妊娠时胎膜早破，防止脐带脱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4419720" y="2895480"/>
            <a:ext cx="68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Line 5"/>
          <p:cNvSpPr/>
          <p:nvPr/>
        </p:nvSpPr>
        <p:spPr>
          <a:xfrm>
            <a:off x="4572000" y="28954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3" name="图片 9" descr="图7-9 头低足高位.jpg"/>
          <p:cNvPicPr/>
          <p:nvPr/>
        </p:nvPicPr>
        <p:blipFill>
          <a:blip r:embed="rId5"/>
          <a:stretch/>
        </p:blipFill>
        <p:spPr>
          <a:xfrm>
            <a:off x="2786040" y="4357800"/>
            <a:ext cx="3397320" cy="178596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2"/>
          <p:cNvSpPr/>
          <p:nvPr/>
        </p:nvSpPr>
        <p:spPr>
          <a:xfrm>
            <a:off x="3357720" y="5857920"/>
            <a:ext cx="25714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头低足高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142920" y="99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七）头高足低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（</a:t>
            </a:r>
            <a:r>
              <a:rPr b="0" lang="en-US" sz="3300" spc="-1" strike="noStrike">
                <a:solidFill>
                  <a:srgbClr val="0d0d0d"/>
                </a:solidFill>
                <a:latin typeface="Times New Roman"/>
                <a:ea typeface="楷体"/>
              </a:rPr>
              <a:t>dorsal elevated position</a:t>
            </a:r>
            <a:r>
              <a:rPr b="0" lang="zh-CN" sz="3300" spc="-1" strike="noStrike">
                <a:solidFill>
                  <a:srgbClr val="0d0d0d"/>
                </a:solidFill>
                <a:latin typeface="Times New Roman"/>
                <a:ea typeface="楷体"/>
              </a:rPr>
              <a:t>）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85840" y="18568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降低颅内压，预防脑水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颅脑手术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颈椎骨折进行颅骨牵引时作反牵引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7" name="图片 4" descr="图7-10 头高足低位.jpg"/>
          <p:cNvPicPr/>
          <p:nvPr/>
        </p:nvPicPr>
        <p:blipFill>
          <a:blip r:embed="rId4"/>
          <a:stretch/>
        </p:blipFill>
        <p:spPr>
          <a:xfrm>
            <a:off x="2786040" y="3857760"/>
            <a:ext cx="3651120" cy="22730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2"/>
          <p:cNvSpPr/>
          <p:nvPr/>
        </p:nvSpPr>
        <p:spPr>
          <a:xfrm>
            <a:off x="3286080" y="5786280"/>
            <a:ext cx="25718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头高足低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360" y="1285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八）膝胸卧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方正舒体"/>
              </a:rPr>
              <a:t>（</a:t>
            </a:r>
            <a:r>
              <a:rPr b="0" lang="en-US" sz="3700" spc="-1" strike="noStrike">
                <a:solidFill>
                  <a:srgbClr val="0d0d0d"/>
                </a:solidFill>
                <a:latin typeface="Times New Roman"/>
                <a:ea typeface="宋体"/>
              </a:rPr>
              <a:t>knee-chest position</a:t>
            </a:r>
            <a:r>
              <a:rPr b="0" lang="zh-CN" sz="3700" spc="-1" strike="noStrike">
                <a:solidFill>
                  <a:srgbClr val="0d0d0d"/>
                </a:solidFill>
                <a:latin typeface="Times New Roman"/>
                <a:ea typeface="宋体"/>
              </a:rPr>
              <a:t>）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57120" y="2142720"/>
            <a:ext cx="678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肛门、直肠、乙状结肠镜检查及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矫正子宫后倾或胎位不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促进产后子宫复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1" name="图片 4" descr="图7-11 膝胸卧位.jpg"/>
          <p:cNvPicPr/>
          <p:nvPr/>
        </p:nvPicPr>
        <p:blipFill>
          <a:blip r:embed="rId4"/>
          <a:stretch/>
        </p:blipFill>
        <p:spPr>
          <a:xfrm>
            <a:off x="4786200" y="3429000"/>
            <a:ext cx="3967200" cy="220500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2"/>
          <p:cNvSpPr/>
          <p:nvPr/>
        </p:nvSpPr>
        <p:spPr>
          <a:xfrm>
            <a:off x="5786280" y="5643720"/>
            <a:ext cx="25718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膝胸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1285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九）截石位</a:t>
            </a:r>
            <a:r>
              <a:rPr b="1" lang="zh-CN" sz="3200" spc="-1" strike="noStrike">
                <a:solidFill>
                  <a:srgbClr val="0d0d0d"/>
                </a:solidFill>
                <a:latin typeface="方正舒体"/>
                <a:ea typeface="方正舒体"/>
              </a:rPr>
              <a:t>（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lithotomic position</a:t>
            </a:r>
            <a:r>
              <a:rPr b="0" lang="zh-CN" sz="3200" spc="-1" strike="noStrike">
                <a:solidFill>
                  <a:srgbClr val="0d0d0d"/>
                </a:solidFill>
                <a:latin typeface="Monotype Corsiv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8584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会阴、肛门部位的检查、治疗或手术，如膀胱镜、妇产科检查、阴道灌洗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产妇分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5" name="图片 4" descr="图7-12 截石位.jpg"/>
          <p:cNvPicPr/>
          <p:nvPr/>
        </p:nvPicPr>
        <p:blipFill>
          <a:blip r:embed="rId3"/>
          <a:stretch/>
        </p:blipFill>
        <p:spPr>
          <a:xfrm>
            <a:off x="4857840" y="3214800"/>
            <a:ext cx="3929040" cy="249552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2"/>
          <p:cNvSpPr/>
          <p:nvPr/>
        </p:nvSpPr>
        <p:spPr>
          <a:xfrm>
            <a:off x="5715000" y="5857920"/>
            <a:ext cx="25718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截石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矩形 1"/>
          <p:cNvSpPr/>
          <p:nvPr/>
        </p:nvSpPr>
        <p:spPr>
          <a:xfrm>
            <a:off x="4187880" y="285840"/>
            <a:ext cx="495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500040" y="1370160"/>
            <a:ext cx="8643960" cy="4795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宋体"/>
              </a:rPr>
              <a:t>识记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说出临床上常用卧位的基本要求和适用范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描述下列概念：主动卧位、被动卧位、被迫卧位、保护具、疼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描述保护具的适用范围及操作中的注意事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说出疼痛的分类和影响疼痛的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说出影响患者安全的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r"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57120" y="1285560"/>
            <a:ext cx="6097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一）协助患者翻身侧卧</a:t>
            </a:r>
            <a:r>
              <a:rPr b="0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28760" y="17856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目的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变换姿势，增进舒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并发症，如压疮、坠积性肺炎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满足治疗、检查和护理的需要，如背部皮肤护理、更换床单或整理床单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矩形 1"/>
          <p:cNvSpPr/>
          <p:nvPr/>
        </p:nvSpPr>
        <p:spPr>
          <a:xfrm>
            <a:off x="2143080" y="0"/>
            <a:ext cx="70009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三、协助患者更换卧位的方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785880" y="2071440"/>
            <a:ext cx="72864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矩形 4"/>
          <p:cNvSpPr/>
          <p:nvPr/>
        </p:nvSpPr>
        <p:spPr>
          <a:xfrm>
            <a:off x="928800" y="1571760"/>
            <a:ext cx="721512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分类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人协助患者翻身侧卧法（适用于体重较轻的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二人协助患者翻身侧卧法（适用于体重较重或病情较重的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二人协助患者轴线翻身法（适用于脊椎受损或脊椎手术后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三人协助患者轴线翻身法（适用于颈椎损伤的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225" name="内容占位符 4" descr="图7-13 一人协助患者翻身侧卧法.jpg"/>
          <p:cNvPicPr/>
          <p:nvPr/>
        </p:nvPicPr>
        <p:blipFill>
          <a:blip r:embed="rId1"/>
          <a:stretch/>
        </p:blipFill>
        <p:spPr>
          <a:xfrm>
            <a:off x="2286000" y="1000080"/>
            <a:ext cx="4572000" cy="487692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2"/>
          <p:cNvSpPr/>
          <p:nvPr/>
        </p:nvSpPr>
        <p:spPr>
          <a:xfrm>
            <a:off x="2286000" y="5857920"/>
            <a:ext cx="43578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人协助患者翻身侧卧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2428920" y="5429160"/>
            <a:ext cx="43578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二人协助患者翻身侧卧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9" name="内容占位符 7" descr="图7-14 二人协助患者翻身侧卧法.jpg"/>
          <p:cNvPicPr/>
          <p:nvPr/>
        </p:nvPicPr>
        <p:blipFill>
          <a:blip r:embed="rId1"/>
          <a:stretch/>
        </p:blipFill>
        <p:spPr>
          <a:xfrm>
            <a:off x="1714680" y="1285920"/>
            <a:ext cx="567684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85840" y="10717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根据病情及皮肤受压情况，确定翻身间隔时间。如发现皮肤红肿或破损，应及时处理，并增加翻身次数，做好记录及交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协助患者翻身时，不可拖拉，防止皮肤擦伤。两人为患者翻身时，动作要协调一致，用力要平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身上带有多种导管时，协助翻身前应先安置妥当，翻身后应检查有无脱落、扭曲、移位、受压等，以保持导管通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节力原则：翻身时护士应让患者尽量靠近自己，使重力线通过支撑面以保持平衡，缩短重力臂，以达到节力、安全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特殊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协助手术后患者翻身前，应检查伤口敷料，先换药再翻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颅脑手术后患者，头部转动过剧可引起脑疝，导致突然死亡，因此一般只卧于健侧或平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进行骨牵引的患者，翻身时不可放松牵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石膏固定、伤口较大的患者，翻身后应注意将患处置于合适位置，以防受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二）协助患者移向床头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目的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协助滑向床尾而不能自行移动的患者移向床头，恢复舒适而安全的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85880" y="2071440"/>
            <a:ext cx="72864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矩形 4"/>
          <p:cNvSpPr/>
          <p:nvPr/>
        </p:nvSpPr>
        <p:spPr>
          <a:xfrm>
            <a:off x="928800" y="1714680"/>
            <a:ext cx="7215120" cy="21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分类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人协助患者移向床头法（适用于体重较轻且生活能部分自理的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二人协助患者移向床头法（适用于体重较重或重症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85880" y="4857480"/>
            <a:ext cx="807696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人协助患者移向床头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5" name="Picture 2" descr="F:\希望\编教材\北医护理学基础\第七章 舒适与安全 刘晓慧 第2审\第七章 舒适与安全（图片）\图7-15 一人协助患者移向床头法.jpg"/>
          <p:cNvPicPr/>
          <p:nvPr/>
        </p:nvPicPr>
        <p:blipFill>
          <a:blip r:embed="rId1"/>
          <a:stretch/>
        </p:blipFill>
        <p:spPr>
          <a:xfrm>
            <a:off x="1928880" y="1643040"/>
            <a:ext cx="566424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785880" y="2071440"/>
            <a:ext cx="72864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矩形 4"/>
          <p:cNvSpPr/>
          <p:nvPr/>
        </p:nvSpPr>
        <p:spPr>
          <a:xfrm>
            <a:off x="928800" y="1643040"/>
            <a:ext cx="7215120" cy="21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中注意遵循节力原则，指导患者与护士同时用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护士动作轻稳，避免对患者的拉、拽等动作，防止关节脱位，使患者舒适、安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矩形 1"/>
          <p:cNvSpPr/>
          <p:nvPr/>
        </p:nvSpPr>
        <p:spPr>
          <a:xfrm>
            <a:off x="2928960" y="285840"/>
            <a:ext cx="495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15"/>
          <p:cNvSpPr/>
          <p:nvPr/>
        </p:nvSpPr>
        <p:spPr>
          <a:xfrm>
            <a:off x="285840" y="1785960"/>
            <a:ext cx="8643960" cy="3724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宋体"/>
              </a:rPr>
              <a:t>理解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解释协助患者更换卧位的目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解释疼痛评估内容和方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解释疼痛的发生机制并举例说明疼痛的原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解释</a:t>
            </a: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WHO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推荐的三阶梯止痛疗法的基本原则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r"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56800" y="2356920"/>
            <a:ext cx="7572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d0d0d"/>
                </a:solidFill>
                <a:latin typeface="宋体"/>
                <a:ea typeface="宋体"/>
              </a:rPr>
              <a:t>第二节 疼痛的护理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16"/>
          <p:cNvSpPr/>
          <p:nvPr/>
        </p:nvSpPr>
        <p:spPr>
          <a:xfrm>
            <a:off x="3500280" y="142920"/>
            <a:ext cx="564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疼痛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Rectangle 1"/>
          <p:cNvSpPr/>
          <p:nvPr/>
        </p:nvSpPr>
        <p:spPr>
          <a:xfrm>
            <a:off x="1864440" y="1468440"/>
            <a:ext cx="5130720" cy="3932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疼痛的概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979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年国际疼痛研究学会的疼痛定义：是一种令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不快的感觉和情绪上的感受，伴随着现有的或潜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的组织损伤”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978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年北美护理诊断协会对疼痛所下的定义：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体经受或叙述有严重不适或不舒服的感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"/>
          <p:cNvSpPr/>
          <p:nvPr/>
        </p:nvSpPr>
        <p:spPr>
          <a:xfrm>
            <a:off x="2064600" y="1789200"/>
            <a:ext cx="5087880" cy="3292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疼痛的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形成的神经传导基本过程可分为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个阶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伤害感受器的痛觉传感，一级传入纤维、脊髓背角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脊髓－丘脑束等上行束的痛觉传递，皮层和边缘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统的痛觉整合，下行控制和神经介质的痛觉调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"/>
          <p:cNvSpPr/>
          <p:nvPr/>
        </p:nvSpPr>
        <p:spPr>
          <a:xfrm>
            <a:off x="1977120" y="1465200"/>
            <a:ext cx="4905000" cy="3292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急性疼痛的发生机制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急性疼痛为伤害感受性疼痛。伤害感受性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的发生机制是疼痛形成的神经传导基本过程。机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受到物理、化学或炎症刺激后产生急性疼痛的痛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信号，并通过神经传导及大脑的分析而感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"/>
          <p:cNvSpPr/>
          <p:nvPr/>
        </p:nvSpPr>
        <p:spPr>
          <a:xfrm>
            <a:off x="1357200" y="1531800"/>
            <a:ext cx="6083280" cy="3292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慢性疼痛的发生机制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伤害感受器过度兴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受损神经异位电活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痛觉传导离子通道和受体异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中枢神经系统重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1"/>
          <p:cNvSpPr/>
          <p:nvPr/>
        </p:nvSpPr>
        <p:spPr>
          <a:xfrm>
            <a:off x="1357200" y="1214280"/>
            <a:ext cx="6083280" cy="45720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三）疼痛的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的性质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刺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酸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跳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点击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1"/>
          <p:cNvSpPr/>
          <p:nvPr/>
        </p:nvSpPr>
        <p:spPr>
          <a:xfrm>
            <a:off x="1357200" y="1158840"/>
            <a:ext cx="6083280" cy="3292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的部位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局部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放射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扩散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牵涉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矩形 3"/>
          <p:cNvSpPr/>
          <p:nvPr/>
        </p:nvSpPr>
        <p:spPr>
          <a:xfrm>
            <a:off x="1285920" y="4357800"/>
            <a:ext cx="52862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的病因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生理性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病理性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1"/>
          <p:cNvSpPr/>
          <p:nvPr/>
        </p:nvSpPr>
        <p:spPr>
          <a:xfrm>
            <a:off x="1357200" y="1812960"/>
            <a:ext cx="6083280" cy="2652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疼痛的持续时间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急性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慢性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16"/>
          <p:cNvSpPr/>
          <p:nvPr/>
        </p:nvSpPr>
        <p:spPr>
          <a:xfrm>
            <a:off x="2071800" y="214200"/>
            <a:ext cx="70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疼痛的原因及影响因素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Rectangle 1"/>
          <p:cNvSpPr/>
          <p:nvPr/>
        </p:nvSpPr>
        <p:spPr>
          <a:xfrm>
            <a:off x="1428840" y="1650960"/>
            <a:ext cx="6369120" cy="3932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疼痛的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温度刺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化学刺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物理损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病理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理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1"/>
          <p:cNvSpPr/>
          <p:nvPr/>
        </p:nvSpPr>
        <p:spPr>
          <a:xfrm>
            <a:off x="1428840" y="1570680"/>
            <a:ext cx="6369120" cy="4093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影响疼痛的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性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个人经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宗教信仰与文化背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理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矩形 1"/>
          <p:cNvSpPr/>
          <p:nvPr/>
        </p:nvSpPr>
        <p:spPr>
          <a:xfrm>
            <a:off x="2928960" y="285840"/>
            <a:ext cx="495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 Box 15"/>
          <p:cNvSpPr/>
          <p:nvPr/>
        </p:nvSpPr>
        <p:spPr>
          <a:xfrm>
            <a:off x="857160" y="1071720"/>
            <a:ext cx="7416720" cy="33994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宋体"/>
              </a:rPr>
              <a:t>运用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根据病情、治疗和患者的实际需要，为其安置舒适卧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结合疼痛患者的实际情况采取有效的控制疼痛的护理措施。</a:t>
            </a: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能针对医院内常见的不安全因素采取有效的防范措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根据患者的病情及需要，正确选择和科学使用各种保护具，保证患者安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1"/>
          <p:cNvSpPr/>
          <p:nvPr/>
        </p:nvSpPr>
        <p:spPr>
          <a:xfrm>
            <a:off x="1428840" y="1236600"/>
            <a:ext cx="6369120" cy="4664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对疼痛的态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8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9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疲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社会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个体差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对疼痛意义的理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应对方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6"/>
          <p:cNvSpPr/>
          <p:nvPr/>
        </p:nvSpPr>
        <p:spPr>
          <a:xfrm>
            <a:off x="2857680" y="214200"/>
            <a:ext cx="628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三、疼痛患者的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1"/>
          <p:cNvSpPr/>
          <p:nvPr/>
        </p:nvSpPr>
        <p:spPr>
          <a:xfrm>
            <a:off x="1285920" y="1242000"/>
            <a:ext cx="6929280" cy="5807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疼痛的护理评估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性别和年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职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疼痛的诱发因素和起病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疼痛的性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疼痛的伴随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精神状态及有关心理社会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其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1"/>
          <p:cNvSpPr/>
          <p:nvPr/>
        </p:nvSpPr>
        <p:spPr>
          <a:xfrm>
            <a:off x="1285920" y="1802160"/>
            <a:ext cx="6929280" cy="3521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交谈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观察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临床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评估工具的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1"/>
          <p:cNvSpPr/>
          <p:nvPr/>
        </p:nvSpPr>
        <p:spPr>
          <a:xfrm>
            <a:off x="1143000" y="1236240"/>
            <a:ext cx="6929280" cy="4664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强度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视觉模拟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8" name="图片 5" descr="图7-16视觉模拟评分量表.jpg"/>
          <p:cNvPicPr/>
          <p:nvPr/>
        </p:nvPicPr>
        <p:blipFill>
          <a:blip r:embed="rId1"/>
          <a:stretch/>
        </p:blipFill>
        <p:spPr>
          <a:xfrm>
            <a:off x="1500120" y="3429000"/>
            <a:ext cx="589284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1"/>
          <p:cNvSpPr/>
          <p:nvPr/>
        </p:nvSpPr>
        <p:spPr>
          <a:xfrm>
            <a:off x="1143000" y="1808640"/>
            <a:ext cx="6929280" cy="3521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强度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文字评价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0" name="图片 6" descr="图7-17 文字评价量表.jpg"/>
          <p:cNvPicPr/>
          <p:nvPr/>
        </p:nvPicPr>
        <p:blipFill>
          <a:blip r:embed="rId1"/>
          <a:stretch/>
        </p:blipFill>
        <p:spPr>
          <a:xfrm>
            <a:off x="1928880" y="3714840"/>
            <a:ext cx="56433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1"/>
          <p:cNvSpPr/>
          <p:nvPr/>
        </p:nvSpPr>
        <p:spPr>
          <a:xfrm>
            <a:off x="1143000" y="1808640"/>
            <a:ext cx="6929280" cy="3521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强度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数字评价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2" name="图片 4" descr="图7-18 数字评价量表.jpg"/>
          <p:cNvPicPr/>
          <p:nvPr/>
        </p:nvPicPr>
        <p:blipFill>
          <a:blip r:embed="rId1"/>
          <a:stretch/>
        </p:blipFill>
        <p:spPr>
          <a:xfrm>
            <a:off x="1857240" y="3500280"/>
            <a:ext cx="5548320" cy="8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"/>
          <p:cNvSpPr/>
          <p:nvPr/>
        </p:nvSpPr>
        <p:spPr>
          <a:xfrm>
            <a:off x="1143000" y="1236240"/>
            <a:ext cx="6929280" cy="4664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强度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Prince-Henry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分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五指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0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分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面部表情疼痛评定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4" name="图片 5" descr="图7-19 面部表情疼痛评定法.jpg"/>
          <p:cNvPicPr/>
          <p:nvPr/>
        </p:nvPicPr>
        <p:blipFill>
          <a:blip r:embed="rId1"/>
          <a:stretch/>
        </p:blipFill>
        <p:spPr>
          <a:xfrm>
            <a:off x="1285920" y="4429080"/>
            <a:ext cx="603252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1"/>
          <p:cNvSpPr/>
          <p:nvPr/>
        </p:nvSpPr>
        <p:spPr>
          <a:xfrm>
            <a:off x="1143000" y="1705320"/>
            <a:ext cx="6929280" cy="372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问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McGil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问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简明疼痛问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500040" y="2102400"/>
            <a:ext cx="8215200" cy="4664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WHO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程度的分级标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级：无痛。</a:t>
            </a:r>
            <a:br>
              <a:rPr sz="2800"/>
            </a:b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级（轻度疼痛）：有疼痛感但不严重，可忍受、睡眠不受影响。</a:t>
            </a:r>
            <a:br>
              <a:rPr sz="2800"/>
            </a:b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级（中度疼痛）：疼痛明显，不能忍受，睡眠受干扰，要求用镇痛药。</a:t>
            </a:r>
            <a:br>
              <a:rPr sz="2800"/>
            </a:b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级（重度疼痛）：疼痛剧烈，不能忍受，睡眠严重受干扰，需要镇痛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1"/>
          <p:cNvSpPr/>
          <p:nvPr/>
        </p:nvSpPr>
        <p:spPr>
          <a:xfrm>
            <a:off x="500040" y="959760"/>
            <a:ext cx="8215200" cy="6949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疼痛患者的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减少或解除疼痛刺激源</a:t>
            </a:r>
            <a:br>
              <a:rPr sz="2800"/>
            </a:b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采用适宜的止痛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药物止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皮肤刺激法止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针灸止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神经破坏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椎管内或脑室内置管镇痛法</a:t>
            </a:r>
            <a:br>
              <a:rPr sz="3200"/>
            </a:b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85880" y="2356920"/>
            <a:ext cx="757224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452e46"/>
                </a:solidFill>
                <a:latin typeface="宋体"/>
                <a:ea typeface="宋体"/>
              </a:rPr>
              <a:t>第一节 患者卧位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57120"/>
            <a:ext cx="807732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宋体"/>
                <a:ea typeface="宋体"/>
              </a:rPr>
              <a:t>WHO</a:t>
            </a:r>
            <a:r>
              <a:rPr b="1" lang="zh-CN" sz="3200" spc="-1" strike="noStrike">
                <a:solidFill>
                  <a:srgbClr val="dddddd"/>
                </a:solidFill>
                <a:latin typeface="宋体"/>
                <a:ea typeface="宋体"/>
              </a:rPr>
              <a:t>三阶梯止痛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468360" y="1339920"/>
            <a:ext cx="8207280" cy="73080"/>
          </a:xfrm>
          <a:prstGeom prst="rect">
            <a:avLst/>
          </a:prstGeom>
          <a:gradFill rotWithShape="0">
            <a:gsLst>
              <a:gs pos="0">
                <a:srgbClr val="00cc66"/>
              </a:gs>
              <a:gs pos="50000">
                <a:srgbClr val="dcf8ea"/>
              </a:gs>
              <a:gs pos="100000">
                <a:srgbClr val="00cc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0" name="Picture 4" descr="图片2"/>
          <p:cNvPicPr/>
          <p:nvPr/>
        </p:nvPicPr>
        <p:blipFill>
          <a:blip r:embed="rId1"/>
          <a:stretch/>
        </p:blipFill>
        <p:spPr>
          <a:xfrm>
            <a:off x="468360" y="1449360"/>
            <a:ext cx="7956360" cy="47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1"/>
          <p:cNvSpPr/>
          <p:nvPr/>
        </p:nvSpPr>
        <p:spPr>
          <a:xfrm>
            <a:off x="500040" y="1269360"/>
            <a:ext cx="8215200" cy="7522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理护理</a:t>
            </a:r>
            <a:br>
              <a:rPr sz="2800"/>
            </a:b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减轻心理压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提供社会心理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转移注意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音乐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松弛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指导想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认知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生物反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1"/>
          <p:cNvSpPr/>
          <p:nvPr/>
        </p:nvSpPr>
        <p:spPr>
          <a:xfrm>
            <a:off x="500040" y="1996560"/>
            <a:ext cx="8215200" cy="42300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促进患者舒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56800" y="2356920"/>
            <a:ext cx="7572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d0d0d"/>
                </a:solidFill>
                <a:latin typeface="宋体"/>
                <a:ea typeface="宋体"/>
              </a:rPr>
              <a:t>第三节 患者安全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8"/>
          <p:cNvSpPr/>
          <p:nvPr/>
        </p:nvSpPr>
        <p:spPr>
          <a:xfrm>
            <a:off x="2286000" y="14292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影响患者安全的因素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85" name="Group 16"/>
          <p:cNvGrpSpPr/>
          <p:nvPr/>
        </p:nvGrpSpPr>
        <p:grpSpPr>
          <a:xfrm>
            <a:off x="1285920" y="1714680"/>
            <a:ext cx="2571840" cy="642600"/>
            <a:chOff x="1285920" y="1714680"/>
            <a:chExt cx="2571840" cy="642600"/>
          </a:xfrm>
        </p:grpSpPr>
        <p:sp>
          <p:nvSpPr>
            <p:cNvPr id="286" name="AutoShape 17"/>
            <p:cNvSpPr/>
            <p:nvPr/>
          </p:nvSpPr>
          <p:spPr>
            <a:xfrm>
              <a:off x="1285920" y="1785960"/>
              <a:ext cx="2571840" cy="5709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7" name="Text Box 18">
              <a:hlinkClick r:id="rId1" action="ppaction://hlinksldjump"/>
            </p:cNvPr>
            <p:cNvSpPr/>
            <p:nvPr/>
          </p:nvSpPr>
          <p:spPr>
            <a:xfrm>
              <a:off x="1642680" y="1714680"/>
              <a:ext cx="1987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年龄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8" name="Group 16"/>
          <p:cNvGrpSpPr/>
          <p:nvPr/>
        </p:nvGrpSpPr>
        <p:grpSpPr>
          <a:xfrm>
            <a:off x="1285920" y="2643120"/>
            <a:ext cx="2571840" cy="642600"/>
            <a:chOff x="1285920" y="2643120"/>
            <a:chExt cx="2571840" cy="642600"/>
          </a:xfrm>
        </p:grpSpPr>
        <p:sp>
          <p:nvSpPr>
            <p:cNvPr id="289" name="AutoShape 17"/>
            <p:cNvSpPr/>
            <p:nvPr/>
          </p:nvSpPr>
          <p:spPr>
            <a:xfrm>
              <a:off x="1285920" y="2714400"/>
              <a:ext cx="2571840" cy="5713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0" name="Text Box 18">
              <a:hlinkClick r:id="rId2" action="ppaction://hlinksldjump"/>
            </p:cNvPr>
            <p:cNvSpPr/>
            <p:nvPr/>
          </p:nvSpPr>
          <p:spPr>
            <a:xfrm>
              <a:off x="1571760" y="2643120"/>
              <a:ext cx="209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意识状态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1" name="Group 16"/>
          <p:cNvGrpSpPr/>
          <p:nvPr/>
        </p:nvGrpSpPr>
        <p:grpSpPr>
          <a:xfrm>
            <a:off x="1285920" y="3714840"/>
            <a:ext cx="2571840" cy="642600"/>
            <a:chOff x="1285920" y="3714840"/>
            <a:chExt cx="2571840" cy="642600"/>
          </a:xfrm>
        </p:grpSpPr>
        <p:sp>
          <p:nvSpPr>
            <p:cNvPr id="292" name="AutoShape 17"/>
            <p:cNvSpPr/>
            <p:nvPr/>
          </p:nvSpPr>
          <p:spPr>
            <a:xfrm>
              <a:off x="1285920" y="3786120"/>
              <a:ext cx="2571840" cy="5713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Text Box 18">
              <a:hlinkClick r:id="rId3" action="ppaction://hlinksldjump"/>
            </p:cNvPr>
            <p:cNvSpPr/>
            <p:nvPr/>
          </p:nvSpPr>
          <p:spPr>
            <a:xfrm>
              <a:off x="1499760" y="3714840"/>
              <a:ext cx="209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健康状况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4" name="Group 16"/>
          <p:cNvGrpSpPr/>
          <p:nvPr/>
        </p:nvGrpSpPr>
        <p:grpSpPr>
          <a:xfrm>
            <a:off x="4929120" y="1714680"/>
            <a:ext cx="2571840" cy="642600"/>
            <a:chOff x="4929120" y="1714680"/>
            <a:chExt cx="2571840" cy="642600"/>
          </a:xfrm>
        </p:grpSpPr>
        <p:sp>
          <p:nvSpPr>
            <p:cNvPr id="295" name="AutoShape 17"/>
            <p:cNvSpPr/>
            <p:nvPr/>
          </p:nvSpPr>
          <p:spPr>
            <a:xfrm>
              <a:off x="4929120" y="1786320"/>
              <a:ext cx="2571840" cy="5709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Text Box 18">
              <a:hlinkClick r:id="rId4" action="ppaction://hlinksldjump"/>
            </p:cNvPr>
            <p:cNvSpPr/>
            <p:nvPr/>
          </p:nvSpPr>
          <p:spPr>
            <a:xfrm>
              <a:off x="5143320" y="1714680"/>
              <a:ext cx="209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感觉功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97" name="AutoShape 17"/>
          <p:cNvSpPr/>
          <p:nvPr/>
        </p:nvSpPr>
        <p:spPr>
          <a:xfrm>
            <a:off x="4929120" y="2714760"/>
            <a:ext cx="2571840" cy="57132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Text Box 18">
            <a:hlinkClick r:id="rId5" action="ppaction://hlinksldjump"/>
          </p:cNvPr>
          <p:cNvSpPr/>
          <p:nvPr/>
        </p:nvSpPr>
        <p:spPr>
          <a:xfrm>
            <a:off x="5143680" y="2714760"/>
            <a:ext cx="209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环境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99" name="Group 16"/>
          <p:cNvGrpSpPr/>
          <p:nvPr/>
        </p:nvGrpSpPr>
        <p:grpSpPr>
          <a:xfrm>
            <a:off x="4929120" y="3714840"/>
            <a:ext cx="2571840" cy="642960"/>
            <a:chOff x="4929120" y="3714840"/>
            <a:chExt cx="2571840" cy="642960"/>
          </a:xfrm>
        </p:grpSpPr>
        <p:sp>
          <p:nvSpPr>
            <p:cNvPr id="300" name="AutoShape 17"/>
            <p:cNvSpPr/>
            <p:nvPr/>
          </p:nvSpPr>
          <p:spPr>
            <a:xfrm>
              <a:off x="4929120" y="3786480"/>
              <a:ext cx="2571840" cy="5713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18">
              <a:hlinkClick r:id="rId6" action="ppaction://hlinksldjump"/>
            </p:cNvPr>
            <p:cNvSpPr/>
            <p:nvPr/>
          </p:nvSpPr>
          <p:spPr>
            <a:xfrm>
              <a:off x="5143320" y="3714840"/>
              <a:ext cx="209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诊疗方法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2" name="Group 16"/>
          <p:cNvGrpSpPr/>
          <p:nvPr/>
        </p:nvGrpSpPr>
        <p:grpSpPr>
          <a:xfrm>
            <a:off x="2571840" y="4929120"/>
            <a:ext cx="3929040" cy="642960"/>
            <a:chOff x="2571840" y="4929120"/>
            <a:chExt cx="3929040" cy="642960"/>
          </a:xfrm>
        </p:grpSpPr>
        <p:sp>
          <p:nvSpPr>
            <p:cNvPr id="303" name="AutoShape 17"/>
            <p:cNvSpPr/>
            <p:nvPr/>
          </p:nvSpPr>
          <p:spPr>
            <a:xfrm>
              <a:off x="2571840" y="5000760"/>
              <a:ext cx="3929040" cy="5713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Text Box 18">
              <a:hlinkClick r:id="rId7" action="ppaction://hlinksldjump"/>
            </p:cNvPr>
            <p:cNvSpPr/>
            <p:nvPr/>
          </p:nvSpPr>
          <p:spPr>
            <a:xfrm>
              <a:off x="2928600" y="4929120"/>
              <a:ext cx="32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医务人员因素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Oval 14"/>
          <p:cNvSpPr/>
          <p:nvPr/>
        </p:nvSpPr>
        <p:spPr>
          <a:xfrm>
            <a:off x="2700360" y="3789360"/>
            <a:ext cx="1942920" cy="2301840"/>
          </a:xfrm>
          <a:prstGeom prst="ellipse">
            <a:avLst/>
          </a:prstGeom>
          <a:solidFill>
            <a:srgbClr val="cccc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Oval 12"/>
          <p:cNvSpPr/>
          <p:nvPr/>
        </p:nvSpPr>
        <p:spPr>
          <a:xfrm>
            <a:off x="3949560" y="990720"/>
            <a:ext cx="1297080" cy="1584360"/>
          </a:xfrm>
          <a:prstGeom prst="ellipse">
            <a:avLst/>
          </a:prstGeom>
          <a:solidFill>
            <a:srgbClr val="cccc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7" name="Picture 7" descr="abstract-design-with-beautiful-flowers1"/>
          <p:cNvPicPr/>
          <p:nvPr/>
        </p:nvPicPr>
        <p:blipFill>
          <a:blip r:embed="rId1"/>
          <a:stretch/>
        </p:blipFill>
        <p:spPr>
          <a:xfrm>
            <a:off x="3203640" y="5913360"/>
            <a:ext cx="247680" cy="17964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8"/>
          <p:cNvSpPr/>
          <p:nvPr/>
        </p:nvSpPr>
        <p:spPr>
          <a:xfrm>
            <a:off x="1285920" y="214200"/>
            <a:ext cx="785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医院常见不安全因素及防范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AutoShape 14"/>
          <p:cNvSpPr/>
          <p:nvPr/>
        </p:nvSpPr>
        <p:spPr>
          <a:xfrm>
            <a:off x="2714760" y="2357280"/>
            <a:ext cx="4011480" cy="81756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AutoShape 15"/>
          <p:cNvSpPr/>
          <p:nvPr/>
        </p:nvSpPr>
        <p:spPr>
          <a:xfrm>
            <a:off x="2714760" y="3357720"/>
            <a:ext cx="4011480" cy="81900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AutoShape 16"/>
          <p:cNvSpPr/>
          <p:nvPr/>
        </p:nvSpPr>
        <p:spPr>
          <a:xfrm>
            <a:off x="2714760" y="4286160"/>
            <a:ext cx="4010040" cy="81756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17"/>
          <p:cNvSpPr/>
          <p:nvPr/>
        </p:nvSpPr>
        <p:spPr>
          <a:xfrm>
            <a:off x="3143160" y="2428920"/>
            <a:ext cx="346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化学性损伤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13" name="Group 19"/>
          <p:cNvGrpSpPr/>
          <p:nvPr/>
        </p:nvGrpSpPr>
        <p:grpSpPr>
          <a:xfrm>
            <a:off x="2714760" y="5357880"/>
            <a:ext cx="4011480" cy="821160"/>
            <a:chOff x="2714760" y="5357880"/>
            <a:chExt cx="4011480" cy="821160"/>
          </a:xfrm>
        </p:grpSpPr>
        <p:sp>
          <p:nvSpPr>
            <p:cNvPr id="314" name="AutoShape 20"/>
            <p:cNvSpPr/>
            <p:nvPr/>
          </p:nvSpPr>
          <p:spPr>
            <a:xfrm>
              <a:off x="2714760" y="5357880"/>
              <a:ext cx="40114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Text Box 21">
              <a:hlinkClick r:id="rId2" action="ppaction://hlinksldjump"/>
            </p:cNvPr>
            <p:cNvSpPr/>
            <p:nvPr/>
          </p:nvSpPr>
          <p:spPr>
            <a:xfrm>
              <a:off x="3179520" y="5414760"/>
              <a:ext cx="3102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医源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6" name="Text Box 22"/>
          <p:cNvSpPr/>
          <p:nvPr/>
        </p:nvSpPr>
        <p:spPr>
          <a:xfrm>
            <a:off x="3143160" y="3357720"/>
            <a:ext cx="320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生物性损伤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Text Box 23"/>
          <p:cNvSpPr/>
          <p:nvPr/>
        </p:nvSpPr>
        <p:spPr>
          <a:xfrm>
            <a:off x="3071880" y="4286160"/>
            <a:ext cx="350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46ca6"/>
                </a:solidFill>
                <a:latin typeface="Arial"/>
                <a:ea typeface="楷体"/>
              </a:rPr>
              <a:t> </a:t>
            </a: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心理性损伤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18" name="Group 19"/>
          <p:cNvGrpSpPr/>
          <p:nvPr/>
        </p:nvGrpSpPr>
        <p:grpSpPr>
          <a:xfrm>
            <a:off x="2643120" y="1428840"/>
            <a:ext cx="4011840" cy="821160"/>
            <a:chOff x="2643120" y="1428840"/>
            <a:chExt cx="4011840" cy="821160"/>
          </a:xfrm>
        </p:grpSpPr>
        <p:sp>
          <p:nvSpPr>
            <p:cNvPr id="319" name="AutoShape 20"/>
            <p:cNvSpPr/>
            <p:nvPr/>
          </p:nvSpPr>
          <p:spPr>
            <a:xfrm>
              <a:off x="2643120" y="1428840"/>
              <a:ext cx="4011840" cy="81900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0" name="Text Box 21">
              <a:hlinkClick r:id="rId3" action="ppaction://hlinksldjump"/>
            </p:cNvPr>
            <p:cNvSpPr/>
            <p:nvPr/>
          </p:nvSpPr>
          <p:spPr>
            <a:xfrm>
              <a:off x="3146040" y="1485720"/>
              <a:ext cx="310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物理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Group 19"/>
          <p:cNvGrpSpPr/>
          <p:nvPr/>
        </p:nvGrpSpPr>
        <p:grpSpPr>
          <a:xfrm>
            <a:off x="2627280" y="1197000"/>
            <a:ext cx="4013280" cy="835200"/>
            <a:chOff x="2627280" y="1197000"/>
            <a:chExt cx="4013280" cy="835200"/>
          </a:xfrm>
        </p:grpSpPr>
        <p:sp>
          <p:nvSpPr>
            <p:cNvPr id="322" name="AutoShape 20"/>
            <p:cNvSpPr/>
            <p:nvPr/>
          </p:nvSpPr>
          <p:spPr>
            <a:xfrm>
              <a:off x="2627280" y="1197000"/>
              <a:ext cx="40132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Text Box 21">
              <a:hlinkClick r:id="rId1" action="ppaction://hlinksldjump"/>
            </p:cNvPr>
            <p:cNvSpPr/>
            <p:nvPr/>
          </p:nvSpPr>
          <p:spPr>
            <a:xfrm>
              <a:off x="3198960" y="1267920"/>
              <a:ext cx="3103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物理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24" name="Rectangle 1"/>
          <p:cNvSpPr/>
          <p:nvPr/>
        </p:nvSpPr>
        <p:spPr>
          <a:xfrm>
            <a:off x="324000" y="2805120"/>
            <a:ext cx="8501040" cy="2482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机械性损伤  常见有跌伤、撞伤、阻塞等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昏迷、神志不清、躁动不安的患者及婴儿可用床档保护，必要时可用约束带和保护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年老体弱，行动不便的患者应给予搀扶，常用物品应放在其容易拿取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1"/>
          <p:cNvSpPr/>
          <p:nvPr/>
        </p:nvSpPr>
        <p:spPr>
          <a:xfrm>
            <a:off x="285840" y="1933920"/>
            <a:ext cx="8858160" cy="6407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病室内地面应注意保持干燥、整洁，室内物品应放置稳妥，移开暂时不需要的物品，减少障碍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患者走廊、浴室、厕所应设置扶手，供患者活动不便时使用，浴室和厕所还应设置呼叫系统，以利患者必要时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应用各种导管、器械进行操作时，应掌握操作规程，动作轻柔，防止损伤患者皮肤黏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于有精神障碍或情绪不稳定的患者，应注意将刀片、剪刀等锐器、钝器保管好，不让患者接触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1"/>
          <p:cNvSpPr/>
          <p:nvPr/>
        </p:nvSpPr>
        <p:spPr>
          <a:xfrm>
            <a:off x="1692000" y="1817280"/>
            <a:ext cx="5461560" cy="4315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温度性损伤 常见有烫伤、冻伤、灼伤、烧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护理人员在应用冷、热疗法时，应严格掌握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作要求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于小儿或容易受伤的患者在热疗期间有专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陪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易燃易爆的物品应妥善保管，并设有防火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医院内各种电器设备应经常检查，及时维修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1"/>
          <p:cNvSpPr/>
          <p:nvPr/>
        </p:nvSpPr>
        <p:spPr>
          <a:xfrm>
            <a:off x="1784520" y="2015280"/>
            <a:ext cx="5248080" cy="3649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压力性损伤  常见有压疮、气压伤、肺水肿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加强对危重患者或长期卧床患者的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应用高压氧舱治疗时，应掌握适应证，治疗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逐渐加压或减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输液时应根据病情，掌握输液的速度及压力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密切观察输液反应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楷体_GB2312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1406520" y="1928880"/>
            <a:ext cx="11559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52e46"/>
                </a:solidFill>
                <a:latin typeface="宋体"/>
                <a:ea typeface="宋体"/>
              </a:rPr>
              <a:t>主动卧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4000680" y="1071720"/>
            <a:ext cx="4786200" cy="1919520"/>
          </a:xfrm>
          <a:prstGeom prst="cloudCallout">
            <a:avLst>
              <a:gd name="adj1" fmla="val -87828"/>
              <a:gd name="adj2" fmla="val 22435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126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身体活动自如，能根据自己的意愿和习惯随意采取舒适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071720" y="2928960"/>
            <a:ext cx="1892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52e46"/>
                </a:solidFill>
                <a:latin typeface="宋体"/>
                <a:ea typeface="宋体"/>
              </a:rPr>
              <a:t>被动卧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1071720" y="4214880"/>
            <a:ext cx="1981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52e46"/>
                </a:solidFill>
                <a:latin typeface="宋体"/>
                <a:ea typeface="宋体"/>
              </a:rPr>
              <a:t>被迫卧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AutoShape 7"/>
          <p:cNvSpPr/>
          <p:nvPr/>
        </p:nvSpPr>
        <p:spPr>
          <a:xfrm>
            <a:off x="3657600" y="2895480"/>
            <a:ext cx="5057640" cy="2176560"/>
          </a:xfrm>
          <a:prstGeom prst="wedgeEllipseCallout">
            <a:avLst>
              <a:gd name="adj1" fmla="val -68421"/>
              <a:gd name="adj2" fmla="val -31439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自身无变换卧位的能力，由他人帮助安置的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8"/>
          <p:cNvSpPr/>
          <p:nvPr/>
        </p:nvSpPr>
        <p:spPr>
          <a:xfrm>
            <a:off x="3357720" y="3214800"/>
            <a:ext cx="5786280" cy="3281400"/>
          </a:xfrm>
          <a:prstGeom prst="cloudCallout">
            <a:avLst>
              <a:gd name="adj1" fmla="val -72726"/>
              <a:gd name="adj2" fmla="val -3902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意识清楚，具有变换卧位的能力，但为了减轻疾病所致的痛苦或因治疗的需要，被迫采取的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矩形 1"/>
          <p:cNvSpPr/>
          <p:nvPr/>
        </p:nvSpPr>
        <p:spPr>
          <a:xfrm>
            <a:off x="4187880" y="285840"/>
            <a:ext cx="495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卧位的性质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"/>
          <p:cNvSpPr/>
          <p:nvPr/>
        </p:nvSpPr>
        <p:spPr>
          <a:xfrm>
            <a:off x="142920" y="1447920"/>
            <a:ext cx="8531280" cy="4157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放射性损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在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射线及其他放射性物质进行诊断或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疗时，要对在场人员采取适当的保护措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于接受放射性诊断或治疗的患者，应尽量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少患者身体不必要的暴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患者进行健康教育，保持接受放射部位皮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的清洁干燥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Group 19"/>
          <p:cNvGrpSpPr/>
          <p:nvPr/>
        </p:nvGrpSpPr>
        <p:grpSpPr>
          <a:xfrm>
            <a:off x="2643120" y="1000080"/>
            <a:ext cx="4013280" cy="835200"/>
            <a:chOff x="2643120" y="1000080"/>
            <a:chExt cx="4013280" cy="835200"/>
          </a:xfrm>
        </p:grpSpPr>
        <p:sp>
          <p:nvSpPr>
            <p:cNvPr id="330" name="AutoShape 20"/>
            <p:cNvSpPr/>
            <p:nvPr/>
          </p:nvSpPr>
          <p:spPr>
            <a:xfrm>
              <a:off x="2643120" y="1000080"/>
              <a:ext cx="40132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Text Box 21">
              <a:hlinkClick r:id="rId1" action="ppaction://hlinksldjump"/>
            </p:cNvPr>
            <p:cNvSpPr/>
            <p:nvPr/>
          </p:nvSpPr>
          <p:spPr>
            <a:xfrm>
              <a:off x="3214080" y="1071000"/>
              <a:ext cx="3103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化学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2" name="Rectangle 1"/>
          <p:cNvSpPr/>
          <p:nvPr/>
        </p:nvSpPr>
        <p:spPr>
          <a:xfrm>
            <a:off x="73080" y="1819800"/>
            <a:ext cx="9070920" cy="3932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护理人员应具备一定的药理知识，掌握常用药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的保管原则和药疗原则；用药时，严格“三查七对”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药物应新鲜配制，注意配伍禁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及时观察患者用药后的反应等，同时还应向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及家属讲解安全用药的有关知识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Group 19"/>
          <p:cNvGrpSpPr/>
          <p:nvPr/>
        </p:nvGrpSpPr>
        <p:grpSpPr>
          <a:xfrm>
            <a:off x="2643120" y="1000080"/>
            <a:ext cx="4013280" cy="835200"/>
            <a:chOff x="2643120" y="1000080"/>
            <a:chExt cx="4013280" cy="835200"/>
          </a:xfrm>
        </p:grpSpPr>
        <p:sp>
          <p:nvSpPr>
            <p:cNvPr id="334" name="AutoShape 20"/>
            <p:cNvSpPr/>
            <p:nvPr/>
          </p:nvSpPr>
          <p:spPr>
            <a:xfrm>
              <a:off x="2643120" y="1000080"/>
              <a:ext cx="40132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Text Box 21">
              <a:hlinkClick r:id="rId1" action="ppaction://hlinksldjump"/>
            </p:cNvPr>
            <p:cNvSpPr/>
            <p:nvPr/>
          </p:nvSpPr>
          <p:spPr>
            <a:xfrm>
              <a:off x="3214800" y="1071000"/>
              <a:ext cx="3103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生物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6" name="Rectangle 1"/>
          <p:cNvSpPr/>
          <p:nvPr/>
        </p:nvSpPr>
        <p:spPr>
          <a:xfrm>
            <a:off x="73080" y="2779560"/>
            <a:ext cx="9070920" cy="2013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控制感染源，切断传播途径，保护易感人群。具体措施为严格执行消毒隔离制度，遵守无菌技术操作原则，加强危重患者的护理、增强患者的体质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应采取有力措施消灭蚊、蝇、虱、蚤、蟑螂等昆虫并加强防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Group 19"/>
          <p:cNvGrpSpPr/>
          <p:nvPr/>
        </p:nvGrpSpPr>
        <p:grpSpPr>
          <a:xfrm>
            <a:off x="2643120" y="1000080"/>
            <a:ext cx="4013280" cy="835200"/>
            <a:chOff x="2643120" y="1000080"/>
            <a:chExt cx="4013280" cy="835200"/>
          </a:xfrm>
        </p:grpSpPr>
        <p:sp>
          <p:nvSpPr>
            <p:cNvPr id="338" name="AutoShape 20"/>
            <p:cNvSpPr/>
            <p:nvPr/>
          </p:nvSpPr>
          <p:spPr>
            <a:xfrm>
              <a:off x="2643120" y="1000080"/>
              <a:ext cx="40132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Text Box 21">
              <a:hlinkClick r:id="rId1" action="ppaction://hlinksldjump"/>
            </p:cNvPr>
            <p:cNvSpPr/>
            <p:nvPr/>
          </p:nvSpPr>
          <p:spPr>
            <a:xfrm>
              <a:off x="3214800" y="1071000"/>
              <a:ext cx="3103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心理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40" name="Rectangle 1"/>
          <p:cNvSpPr/>
          <p:nvPr/>
        </p:nvSpPr>
        <p:spPr>
          <a:xfrm>
            <a:off x="73080" y="2273040"/>
            <a:ext cx="9070920" cy="3649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护士应重视患者的心理护理，注意自身的行为举止，避免传递不良信息，造成患者情绪波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与患者建立良好的关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应以高质量的护理行为取得患者的信任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对患者进行有关疾病知识的健康教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对于精神障碍的患者、病情危重失去自信心的患者，应加强监护，防止发生各种意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Group 19"/>
          <p:cNvGrpSpPr/>
          <p:nvPr/>
        </p:nvGrpSpPr>
        <p:grpSpPr>
          <a:xfrm>
            <a:off x="2643120" y="1000080"/>
            <a:ext cx="4013280" cy="835200"/>
            <a:chOff x="2643120" y="1000080"/>
            <a:chExt cx="4013280" cy="835200"/>
          </a:xfrm>
        </p:grpSpPr>
        <p:sp>
          <p:nvSpPr>
            <p:cNvPr id="342" name="AutoShape 20"/>
            <p:cNvSpPr/>
            <p:nvPr/>
          </p:nvSpPr>
          <p:spPr>
            <a:xfrm>
              <a:off x="2643120" y="1000080"/>
              <a:ext cx="40132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Text Box 21">
              <a:hlinkClick r:id="rId1" action="ppaction://hlinksldjump"/>
            </p:cNvPr>
            <p:cNvSpPr/>
            <p:nvPr/>
          </p:nvSpPr>
          <p:spPr>
            <a:xfrm>
              <a:off x="3214800" y="1071000"/>
              <a:ext cx="3103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医源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44" name="Rectangle 1"/>
          <p:cNvSpPr/>
          <p:nvPr/>
        </p:nvSpPr>
        <p:spPr>
          <a:xfrm>
            <a:off x="571680" y="2448000"/>
            <a:ext cx="8072280" cy="3292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医院要加强思想教育，培养医护人员良好的医德医风，提高素质，严格执行各项规章制度和操作规程，做到有效的防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医务人员应保持良好的服务态度，并制订相应的措施以杜绝差错事故，做到有效防范，保障患者的安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AutoShape 2"/>
          <p:cNvSpPr/>
          <p:nvPr/>
        </p:nvSpPr>
        <p:spPr>
          <a:xfrm>
            <a:off x="112680" y="3349800"/>
            <a:ext cx="3129120" cy="72684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Oval 13"/>
          <p:cNvSpPr/>
          <p:nvPr/>
        </p:nvSpPr>
        <p:spPr>
          <a:xfrm>
            <a:off x="6875640" y="2592360"/>
            <a:ext cx="1728720" cy="2232000"/>
          </a:xfrm>
          <a:prstGeom prst="ellipse">
            <a:avLst/>
          </a:prstGeom>
          <a:solidFill>
            <a:srgbClr val="cccc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Text Box 16"/>
          <p:cNvSpPr/>
          <p:nvPr/>
        </p:nvSpPr>
        <p:spPr>
          <a:xfrm>
            <a:off x="3214800" y="14292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三、保护具的使用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Text Box 17"/>
          <p:cNvSpPr/>
          <p:nvPr/>
        </p:nvSpPr>
        <p:spPr>
          <a:xfrm>
            <a:off x="111240" y="3349800"/>
            <a:ext cx="334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保护具的定义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AutoShape 18"/>
          <p:cNvSpPr/>
          <p:nvPr/>
        </p:nvSpPr>
        <p:spPr>
          <a:xfrm>
            <a:off x="4125960" y="1390680"/>
            <a:ext cx="4838760" cy="4152960"/>
          </a:xfrm>
          <a:prstGeom prst="wedgeRoundRectCallout">
            <a:avLst>
              <a:gd name="adj1" fmla="val -64402"/>
              <a:gd name="adj2" fmla="val 7643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用来限制患者身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某部位的活动，以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达到维护患者安全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与治疗效果的各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器具。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mph" presetID="25">
                                  <p:stCondLst>
                                    <p:cond delay="500"/>
                                  </p:stCondLst>
                                  <p:childTnLst>
                                    <p:animClr clrSpc="hsl" dir="cw">
                                      <p:cBhvr>
                                        <p:cTn id="2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2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3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AutoShape 2"/>
          <p:cNvSpPr/>
          <p:nvPr/>
        </p:nvSpPr>
        <p:spPr>
          <a:xfrm>
            <a:off x="250920" y="3349800"/>
            <a:ext cx="2346120" cy="79992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Oval 13"/>
          <p:cNvSpPr/>
          <p:nvPr/>
        </p:nvSpPr>
        <p:spPr>
          <a:xfrm>
            <a:off x="6875640" y="2592360"/>
            <a:ext cx="1728720" cy="2232000"/>
          </a:xfrm>
          <a:prstGeom prst="ellipse">
            <a:avLst/>
          </a:prstGeom>
          <a:solidFill>
            <a:srgbClr val="cccc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Text Box 17"/>
          <p:cNvSpPr/>
          <p:nvPr/>
        </p:nvSpPr>
        <p:spPr>
          <a:xfrm>
            <a:off x="311040" y="3349800"/>
            <a:ext cx="334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适用范围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AutoShape 18"/>
          <p:cNvSpPr/>
          <p:nvPr/>
        </p:nvSpPr>
        <p:spPr>
          <a:xfrm>
            <a:off x="3286080" y="2214720"/>
            <a:ext cx="5550120" cy="3590640"/>
          </a:xfrm>
          <a:prstGeom prst="wedgeRoundRectCallout">
            <a:avLst>
              <a:gd name="adj1" fmla="val -62555"/>
              <a:gd name="adj2" fmla="val -8444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易发生坠床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儿科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实施某些眼科特殊手术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精神障碍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长期卧床、极度消瘦、虚弱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皮肤瘙痒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mph" presetID="25">
                                  <p:stCondLst>
                                    <p:cond delay="500"/>
                                  </p:stCondLst>
                                  <p:childTnLst>
                                    <p:animClr clrSpc="hsl" dir="cw">
                                      <p:cBhvr>
                                        <p:cTn id="4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16"/>
          <p:cNvGrpSpPr/>
          <p:nvPr/>
        </p:nvGrpSpPr>
        <p:grpSpPr>
          <a:xfrm>
            <a:off x="1000080" y="2071800"/>
            <a:ext cx="7416720" cy="3097080"/>
            <a:chOff x="1000080" y="2071800"/>
            <a:chExt cx="7416720" cy="3097080"/>
          </a:xfrm>
        </p:grpSpPr>
        <p:sp>
          <p:nvSpPr>
            <p:cNvPr id="355" name="AutoShape 17"/>
            <p:cNvSpPr/>
            <p:nvPr/>
          </p:nvSpPr>
          <p:spPr>
            <a:xfrm>
              <a:off x="1000080" y="2071800"/>
              <a:ext cx="7416720" cy="3097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6" name="Text Box 18"/>
            <p:cNvSpPr/>
            <p:nvPr/>
          </p:nvSpPr>
          <p:spPr>
            <a:xfrm>
              <a:off x="1341360" y="2883240"/>
              <a:ext cx="70754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46ca6"/>
                  </a:solidFill>
                  <a:latin typeface="Arial"/>
                  <a:ea typeface="楷体"/>
                </a:rPr>
                <a:t>      </a:t>
              </a: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常用保护具的实质是防止上述人群的机械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16"/>
          <p:cNvGrpSpPr/>
          <p:nvPr/>
        </p:nvGrpSpPr>
        <p:grpSpPr>
          <a:xfrm>
            <a:off x="1542600" y="2143080"/>
            <a:ext cx="854640" cy="2629080"/>
            <a:chOff x="1542600" y="2143080"/>
            <a:chExt cx="854640" cy="2629080"/>
          </a:xfrm>
        </p:grpSpPr>
        <p:sp>
          <p:nvSpPr>
            <p:cNvPr id="358" name="AutoShape 17"/>
            <p:cNvSpPr/>
            <p:nvPr/>
          </p:nvSpPr>
          <p:spPr>
            <a:xfrm>
              <a:off x="1542600" y="2143080"/>
              <a:ext cx="854640" cy="2629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9" name="Text Box 18"/>
            <p:cNvSpPr/>
            <p:nvPr/>
          </p:nvSpPr>
          <p:spPr>
            <a:xfrm>
              <a:off x="1546560" y="2590560"/>
              <a:ext cx="850680" cy="19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床 档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0" name="AutoShape 28"/>
          <p:cNvSpPr/>
          <p:nvPr/>
        </p:nvSpPr>
        <p:spPr>
          <a:xfrm>
            <a:off x="3786120" y="2071800"/>
            <a:ext cx="3430800" cy="3319200"/>
          </a:xfrm>
          <a:prstGeom prst="wedgeRoundRectCallout">
            <a:avLst>
              <a:gd name="adj1" fmla="val -88555"/>
              <a:gd name="adj2" fmla="val -12412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目的：防坠床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Group 16"/>
          <p:cNvGrpSpPr/>
          <p:nvPr/>
        </p:nvGrpSpPr>
        <p:grpSpPr>
          <a:xfrm>
            <a:off x="656640" y="2266920"/>
            <a:ext cx="854640" cy="2629080"/>
            <a:chOff x="656640" y="2266920"/>
            <a:chExt cx="854640" cy="2629080"/>
          </a:xfrm>
        </p:grpSpPr>
        <p:sp>
          <p:nvSpPr>
            <p:cNvPr id="362" name="AutoShape 17"/>
            <p:cNvSpPr/>
            <p:nvPr/>
          </p:nvSpPr>
          <p:spPr>
            <a:xfrm>
              <a:off x="656640" y="2266920"/>
              <a:ext cx="854280" cy="2629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3" name="Text Box 18"/>
            <p:cNvSpPr/>
            <p:nvPr/>
          </p:nvSpPr>
          <p:spPr>
            <a:xfrm>
              <a:off x="660600" y="2714400"/>
              <a:ext cx="850680" cy="19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床 档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64" name="图片 32" descr="图7-20 多功能床档.jpg"/>
          <p:cNvPicPr/>
          <p:nvPr/>
        </p:nvPicPr>
        <p:blipFill>
          <a:blip r:embed="rId1"/>
          <a:stretch/>
        </p:blipFill>
        <p:spPr>
          <a:xfrm>
            <a:off x="2286000" y="1785960"/>
            <a:ext cx="5857920" cy="309384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27"/>
          <p:cNvSpPr/>
          <p:nvPr/>
        </p:nvSpPr>
        <p:spPr>
          <a:xfrm>
            <a:off x="3429000" y="5214960"/>
            <a:ext cx="327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多功能床档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928800" y="1499760"/>
            <a:ext cx="685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一）仰卧位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(supine position)</a:t>
            </a:r>
            <a:r>
              <a:rPr b="0" lang="en-US" sz="36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去枕仰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中凹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屈膝仰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矩形 1"/>
          <p:cNvSpPr/>
          <p:nvPr/>
        </p:nvSpPr>
        <p:spPr>
          <a:xfrm>
            <a:off x="1214280" y="0"/>
            <a:ext cx="79297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常用的各种卧位及其基本要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16"/>
          <p:cNvGrpSpPr/>
          <p:nvPr/>
        </p:nvGrpSpPr>
        <p:grpSpPr>
          <a:xfrm>
            <a:off x="656640" y="2266920"/>
            <a:ext cx="854640" cy="2629080"/>
            <a:chOff x="656640" y="2266920"/>
            <a:chExt cx="854640" cy="2629080"/>
          </a:xfrm>
        </p:grpSpPr>
        <p:sp>
          <p:nvSpPr>
            <p:cNvPr id="367" name="AutoShape 17"/>
            <p:cNvSpPr/>
            <p:nvPr/>
          </p:nvSpPr>
          <p:spPr>
            <a:xfrm>
              <a:off x="656640" y="2266920"/>
              <a:ext cx="854280" cy="2629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8" name="Text Box 18"/>
            <p:cNvSpPr/>
            <p:nvPr/>
          </p:nvSpPr>
          <p:spPr>
            <a:xfrm>
              <a:off x="660600" y="2714400"/>
              <a:ext cx="850680" cy="19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床 档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9" name="Text Box 27"/>
          <p:cNvSpPr/>
          <p:nvPr/>
        </p:nvSpPr>
        <p:spPr>
          <a:xfrm>
            <a:off x="3429000" y="5214960"/>
            <a:ext cx="327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半自动床档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0" name="图片 7" descr="图7-21 半自动床档.jpg"/>
          <p:cNvPicPr/>
          <p:nvPr/>
        </p:nvPicPr>
        <p:blipFill>
          <a:blip r:embed="rId1"/>
          <a:stretch/>
        </p:blipFill>
        <p:spPr>
          <a:xfrm>
            <a:off x="2286000" y="1857240"/>
            <a:ext cx="604836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Group 16"/>
          <p:cNvGrpSpPr/>
          <p:nvPr/>
        </p:nvGrpSpPr>
        <p:grpSpPr>
          <a:xfrm>
            <a:off x="656640" y="2266920"/>
            <a:ext cx="854640" cy="2629080"/>
            <a:chOff x="656640" y="2266920"/>
            <a:chExt cx="854640" cy="2629080"/>
          </a:xfrm>
        </p:grpSpPr>
        <p:sp>
          <p:nvSpPr>
            <p:cNvPr id="372" name="AutoShape 17"/>
            <p:cNvSpPr/>
            <p:nvPr/>
          </p:nvSpPr>
          <p:spPr>
            <a:xfrm>
              <a:off x="656640" y="2266920"/>
              <a:ext cx="854280" cy="2629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3" name="Text Box 18"/>
            <p:cNvSpPr/>
            <p:nvPr/>
          </p:nvSpPr>
          <p:spPr>
            <a:xfrm>
              <a:off x="660600" y="2714400"/>
              <a:ext cx="850680" cy="19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床 档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74" name="Group 25"/>
          <p:cNvGrpSpPr/>
          <p:nvPr/>
        </p:nvGrpSpPr>
        <p:grpSpPr>
          <a:xfrm>
            <a:off x="2500200" y="1428840"/>
            <a:ext cx="5715000" cy="4764960"/>
            <a:chOff x="2500200" y="1428840"/>
            <a:chExt cx="5715000" cy="4764960"/>
          </a:xfrm>
        </p:grpSpPr>
        <p:pic>
          <p:nvPicPr>
            <p:cNvPr id="375" name="Picture 26" descr="木杆床档"/>
            <p:cNvPicPr/>
            <p:nvPr/>
          </p:nvPicPr>
          <p:blipFill>
            <a:blip r:embed="rId1"/>
            <a:stretch/>
          </p:blipFill>
          <p:spPr>
            <a:xfrm>
              <a:off x="2500200" y="1428840"/>
              <a:ext cx="5715000" cy="364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Text Box 27"/>
            <p:cNvSpPr/>
            <p:nvPr/>
          </p:nvSpPr>
          <p:spPr>
            <a:xfrm>
              <a:off x="4071960" y="5429520"/>
              <a:ext cx="2704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木杆床档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1" dur="1" fill="hold"/>
                                  <p:tgtEl>
                                    <p:spTgt spid="3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Group 13"/>
          <p:cNvGrpSpPr/>
          <p:nvPr/>
        </p:nvGrpSpPr>
        <p:grpSpPr>
          <a:xfrm>
            <a:off x="-9720" y="2519280"/>
            <a:ext cx="1521000" cy="2781360"/>
            <a:chOff x="-9720" y="2519280"/>
            <a:chExt cx="1521000" cy="2781360"/>
          </a:xfrm>
        </p:grpSpPr>
        <p:sp>
          <p:nvSpPr>
            <p:cNvPr id="378" name="AutoShape 14"/>
            <p:cNvSpPr/>
            <p:nvPr/>
          </p:nvSpPr>
          <p:spPr>
            <a:xfrm>
              <a:off x="657000" y="2519280"/>
              <a:ext cx="854280" cy="2781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9" name="Text Box 15"/>
            <p:cNvSpPr/>
            <p:nvPr/>
          </p:nvSpPr>
          <p:spPr>
            <a:xfrm>
              <a:off x="-9720" y="3036600"/>
              <a:ext cx="1521000" cy="21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0" name="AutoShape 16"/>
          <p:cNvSpPr/>
          <p:nvPr/>
        </p:nvSpPr>
        <p:spPr>
          <a:xfrm>
            <a:off x="2486160" y="2182680"/>
            <a:ext cx="5470560" cy="3117960"/>
          </a:xfrm>
          <a:prstGeom prst="wedgeRoundRectCallout">
            <a:avLst>
              <a:gd name="adj1" fmla="val -64597"/>
              <a:gd name="adj2" fmla="val -1222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目的：约束肢体行动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且或保持肢体功能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Group 16"/>
          <p:cNvGrpSpPr/>
          <p:nvPr/>
        </p:nvGrpSpPr>
        <p:grpSpPr>
          <a:xfrm>
            <a:off x="-9720" y="2266920"/>
            <a:ext cx="1521000" cy="2629080"/>
            <a:chOff x="-9720" y="2266920"/>
            <a:chExt cx="1521000" cy="2629080"/>
          </a:xfrm>
        </p:grpSpPr>
        <p:sp>
          <p:nvSpPr>
            <p:cNvPr id="382" name="AutoShape 17"/>
            <p:cNvSpPr/>
            <p:nvPr/>
          </p:nvSpPr>
          <p:spPr>
            <a:xfrm>
              <a:off x="657000" y="2266920"/>
              <a:ext cx="854280" cy="2629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" name="Text Box 18"/>
            <p:cNvSpPr/>
            <p:nvPr/>
          </p:nvSpPr>
          <p:spPr>
            <a:xfrm>
              <a:off x="-9720" y="2714400"/>
              <a:ext cx="1521000" cy="185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4" name="Text Box 27"/>
          <p:cNvSpPr/>
          <p:nvPr/>
        </p:nvSpPr>
        <p:spPr>
          <a:xfrm>
            <a:off x="3429000" y="5214960"/>
            <a:ext cx="327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手肘约束带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85" name="图片 8" descr="图7-23 手肘约束带.jpg"/>
          <p:cNvPicPr/>
          <p:nvPr/>
        </p:nvPicPr>
        <p:blipFill>
          <a:blip r:embed="rId1"/>
          <a:srcRect l="0" t="0" r="0" b="10000"/>
          <a:stretch/>
        </p:blipFill>
        <p:spPr>
          <a:xfrm>
            <a:off x="2143080" y="1571760"/>
            <a:ext cx="631512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16"/>
          <p:cNvGrpSpPr/>
          <p:nvPr/>
        </p:nvGrpSpPr>
        <p:grpSpPr>
          <a:xfrm>
            <a:off x="412560" y="2071800"/>
            <a:ext cx="1521000" cy="2628720"/>
            <a:chOff x="412560" y="2071800"/>
            <a:chExt cx="1521000" cy="2628720"/>
          </a:xfrm>
        </p:grpSpPr>
        <p:sp>
          <p:nvSpPr>
            <p:cNvPr id="387" name="AutoShape 17"/>
            <p:cNvSpPr/>
            <p:nvPr/>
          </p:nvSpPr>
          <p:spPr>
            <a:xfrm>
              <a:off x="1079280" y="2071800"/>
              <a:ext cx="854280" cy="2628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8" name="Text Box 18"/>
            <p:cNvSpPr/>
            <p:nvPr/>
          </p:nvSpPr>
          <p:spPr>
            <a:xfrm>
              <a:off x="412560" y="2519280"/>
              <a:ext cx="1521000" cy="18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9" name="Text Box 27"/>
          <p:cNvSpPr/>
          <p:nvPr/>
        </p:nvSpPr>
        <p:spPr>
          <a:xfrm>
            <a:off x="3714840" y="5214960"/>
            <a:ext cx="327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肘部保护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0" name="图片 7" descr="图7-24 肘部保护器.jpg"/>
          <p:cNvPicPr/>
          <p:nvPr/>
        </p:nvPicPr>
        <p:blipFill>
          <a:blip r:embed="rId1"/>
          <a:stretch/>
        </p:blipFill>
        <p:spPr>
          <a:xfrm>
            <a:off x="3143160" y="1571760"/>
            <a:ext cx="42148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Group 16"/>
          <p:cNvGrpSpPr/>
          <p:nvPr/>
        </p:nvGrpSpPr>
        <p:grpSpPr>
          <a:xfrm>
            <a:off x="412560" y="2071800"/>
            <a:ext cx="1521000" cy="2628720"/>
            <a:chOff x="412560" y="2071800"/>
            <a:chExt cx="1521000" cy="2628720"/>
          </a:xfrm>
        </p:grpSpPr>
        <p:sp>
          <p:nvSpPr>
            <p:cNvPr id="392" name="AutoShape 17"/>
            <p:cNvSpPr/>
            <p:nvPr/>
          </p:nvSpPr>
          <p:spPr>
            <a:xfrm>
              <a:off x="1079280" y="2071800"/>
              <a:ext cx="854280" cy="2628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3" name="Text Box 18"/>
            <p:cNvSpPr/>
            <p:nvPr/>
          </p:nvSpPr>
          <p:spPr>
            <a:xfrm>
              <a:off x="412560" y="2519280"/>
              <a:ext cx="1521000" cy="18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94" name="Text Box 27"/>
          <p:cNvSpPr/>
          <p:nvPr/>
        </p:nvSpPr>
        <p:spPr>
          <a:xfrm>
            <a:off x="3929040" y="5214960"/>
            <a:ext cx="264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约束手套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5" name="图片 8" descr="图7-25 约束手套.jpg"/>
          <p:cNvPicPr/>
          <p:nvPr/>
        </p:nvPicPr>
        <p:blipFill>
          <a:blip r:embed="rId1"/>
          <a:stretch/>
        </p:blipFill>
        <p:spPr>
          <a:xfrm>
            <a:off x="3286080" y="1714680"/>
            <a:ext cx="38959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16"/>
          <p:cNvGrpSpPr/>
          <p:nvPr/>
        </p:nvGrpSpPr>
        <p:grpSpPr>
          <a:xfrm>
            <a:off x="55440" y="2071800"/>
            <a:ext cx="1521000" cy="2628720"/>
            <a:chOff x="55440" y="2071800"/>
            <a:chExt cx="1521000" cy="2628720"/>
          </a:xfrm>
        </p:grpSpPr>
        <p:sp>
          <p:nvSpPr>
            <p:cNvPr id="397" name="AutoShape 17"/>
            <p:cNvSpPr/>
            <p:nvPr/>
          </p:nvSpPr>
          <p:spPr>
            <a:xfrm>
              <a:off x="721800" y="2071800"/>
              <a:ext cx="854640" cy="2628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" name="Text Box 18"/>
            <p:cNvSpPr/>
            <p:nvPr/>
          </p:nvSpPr>
          <p:spPr>
            <a:xfrm>
              <a:off x="55440" y="2519280"/>
              <a:ext cx="1521000" cy="18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99" name="Text Box 27"/>
          <p:cNvSpPr/>
          <p:nvPr/>
        </p:nvSpPr>
        <p:spPr>
          <a:xfrm>
            <a:off x="3929040" y="5500800"/>
            <a:ext cx="264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约束衣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0" name="图片 7" descr="图7-26 约束衣.jpg"/>
          <p:cNvPicPr/>
          <p:nvPr/>
        </p:nvPicPr>
        <p:blipFill>
          <a:blip r:embed="rId1"/>
          <a:stretch/>
        </p:blipFill>
        <p:spPr>
          <a:xfrm>
            <a:off x="2214720" y="1428840"/>
            <a:ext cx="571500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Group 16"/>
          <p:cNvGrpSpPr/>
          <p:nvPr/>
        </p:nvGrpSpPr>
        <p:grpSpPr>
          <a:xfrm>
            <a:off x="55440" y="2071800"/>
            <a:ext cx="1521000" cy="3357360"/>
            <a:chOff x="55440" y="2071800"/>
            <a:chExt cx="1521000" cy="3357360"/>
          </a:xfrm>
        </p:grpSpPr>
        <p:sp>
          <p:nvSpPr>
            <p:cNvPr id="402" name="AutoShape 17"/>
            <p:cNvSpPr/>
            <p:nvPr/>
          </p:nvSpPr>
          <p:spPr>
            <a:xfrm>
              <a:off x="721800" y="2071800"/>
              <a:ext cx="854640" cy="3357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Text Box 18"/>
            <p:cNvSpPr/>
            <p:nvPr/>
          </p:nvSpPr>
          <p:spPr>
            <a:xfrm>
              <a:off x="55440" y="2214360"/>
              <a:ext cx="1521000" cy="28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肩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4" name="Text Box 27"/>
          <p:cNvSpPr/>
          <p:nvPr/>
        </p:nvSpPr>
        <p:spPr>
          <a:xfrm>
            <a:off x="4000680" y="5072040"/>
            <a:ext cx="314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肩部约束带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5" name="图片 8" descr="图7-27 肩部约束带.jpg"/>
          <p:cNvPicPr/>
          <p:nvPr/>
        </p:nvPicPr>
        <p:blipFill>
          <a:blip r:embed="rId1"/>
          <a:stretch/>
        </p:blipFill>
        <p:spPr>
          <a:xfrm>
            <a:off x="2432160" y="1774800"/>
            <a:ext cx="5711760" cy="26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16"/>
          <p:cNvGrpSpPr/>
          <p:nvPr/>
        </p:nvGrpSpPr>
        <p:grpSpPr>
          <a:xfrm>
            <a:off x="555480" y="1857240"/>
            <a:ext cx="1521000" cy="3357720"/>
            <a:chOff x="555480" y="1857240"/>
            <a:chExt cx="1521000" cy="3357720"/>
          </a:xfrm>
        </p:grpSpPr>
        <p:sp>
          <p:nvSpPr>
            <p:cNvPr id="407" name="AutoShape 17"/>
            <p:cNvSpPr/>
            <p:nvPr/>
          </p:nvSpPr>
          <p:spPr>
            <a:xfrm>
              <a:off x="1221840" y="18572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" name="Text Box 18"/>
            <p:cNvSpPr/>
            <p:nvPr/>
          </p:nvSpPr>
          <p:spPr>
            <a:xfrm>
              <a:off x="555480" y="1999800"/>
              <a:ext cx="152100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肩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9" name="Text Box 27"/>
          <p:cNvSpPr/>
          <p:nvPr/>
        </p:nvSpPr>
        <p:spPr>
          <a:xfrm>
            <a:off x="2928960" y="5143680"/>
            <a:ext cx="49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肩部约束带固定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10" name="图片 7" descr="图7-28 肩部约束带固定法.jpg"/>
          <p:cNvPicPr/>
          <p:nvPr/>
        </p:nvPicPr>
        <p:blipFill>
          <a:blip r:embed="rId1"/>
          <a:stretch/>
        </p:blipFill>
        <p:spPr>
          <a:xfrm>
            <a:off x="3500280" y="1643040"/>
            <a:ext cx="378648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16"/>
          <p:cNvGrpSpPr/>
          <p:nvPr/>
        </p:nvGrpSpPr>
        <p:grpSpPr>
          <a:xfrm>
            <a:off x="555480" y="1643040"/>
            <a:ext cx="1521000" cy="3357720"/>
            <a:chOff x="555480" y="1643040"/>
            <a:chExt cx="1521000" cy="3357720"/>
          </a:xfrm>
        </p:grpSpPr>
        <p:sp>
          <p:nvSpPr>
            <p:cNvPr id="412" name="AutoShape 17"/>
            <p:cNvSpPr/>
            <p:nvPr/>
          </p:nvSpPr>
          <p:spPr>
            <a:xfrm>
              <a:off x="1221840" y="16430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Text Box 18"/>
            <p:cNvSpPr/>
            <p:nvPr/>
          </p:nvSpPr>
          <p:spPr>
            <a:xfrm>
              <a:off x="555480" y="1785600"/>
              <a:ext cx="152100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肩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4" name="Text Box 27"/>
          <p:cNvSpPr/>
          <p:nvPr/>
        </p:nvSpPr>
        <p:spPr>
          <a:xfrm>
            <a:off x="3357720" y="5072040"/>
            <a:ext cx="49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肩部大单固定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15" name="图片 8" descr="图7-29 肩部大单固定法.jpg"/>
          <p:cNvPicPr/>
          <p:nvPr/>
        </p:nvPicPr>
        <p:blipFill>
          <a:blip r:embed="rId1"/>
          <a:srcRect l="27332" t="0" r="0" b="0"/>
          <a:stretch/>
        </p:blipFill>
        <p:spPr>
          <a:xfrm>
            <a:off x="2857680" y="2143080"/>
            <a:ext cx="50004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442908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去枕仰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56760" y="1714680"/>
            <a:ext cx="5000760" cy="39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昏迷或全身麻醉未清醒的患者。可防止呕吐物误入气管而引起窒息或肺部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椎管内麻醉或脊髓腔穿刺后的患者。可预防颅内压降低而引起的头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9" name="剪贴画占位符 5" descr="图7-1 去枕仰卧位.jpg"/>
          <p:cNvPicPr/>
          <p:nvPr/>
        </p:nvPicPr>
        <p:blipFill>
          <a:blip r:embed="rId3"/>
          <a:stretch/>
        </p:blipFill>
        <p:spPr>
          <a:xfrm>
            <a:off x="5500800" y="2571840"/>
            <a:ext cx="3473280" cy="199872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2"/>
          <p:cNvSpPr/>
          <p:nvPr/>
        </p:nvSpPr>
        <p:spPr>
          <a:xfrm>
            <a:off x="5500800" y="4500720"/>
            <a:ext cx="35002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去枕仰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16"/>
          <p:cNvGrpSpPr/>
          <p:nvPr/>
        </p:nvGrpSpPr>
        <p:grpSpPr>
          <a:xfrm>
            <a:off x="126720" y="1714680"/>
            <a:ext cx="1521000" cy="3357360"/>
            <a:chOff x="126720" y="1714680"/>
            <a:chExt cx="1521000" cy="3357360"/>
          </a:xfrm>
        </p:grpSpPr>
        <p:sp>
          <p:nvSpPr>
            <p:cNvPr id="417" name="AutoShape 17"/>
            <p:cNvSpPr/>
            <p:nvPr/>
          </p:nvSpPr>
          <p:spPr>
            <a:xfrm>
              <a:off x="793440" y="1714680"/>
              <a:ext cx="854280" cy="3357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Text Box 18"/>
            <p:cNvSpPr/>
            <p:nvPr/>
          </p:nvSpPr>
          <p:spPr>
            <a:xfrm>
              <a:off x="126720" y="1857240"/>
              <a:ext cx="1521000" cy="28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宽布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9" name="Text Box 27"/>
          <p:cNvSpPr/>
          <p:nvPr/>
        </p:nvSpPr>
        <p:spPr>
          <a:xfrm>
            <a:off x="6215040" y="207180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双套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0" name="图片 7" descr="图7-30 双套结.jpg"/>
          <p:cNvPicPr/>
          <p:nvPr/>
        </p:nvPicPr>
        <p:blipFill>
          <a:blip r:embed="rId1"/>
          <a:stretch/>
        </p:blipFill>
        <p:spPr>
          <a:xfrm>
            <a:off x="2143080" y="1285920"/>
            <a:ext cx="3100320" cy="2071800"/>
          </a:xfrm>
          <a:prstGeom prst="rect">
            <a:avLst/>
          </a:prstGeom>
          <a:ln w="0">
            <a:noFill/>
          </a:ln>
        </p:spPr>
      </p:pic>
      <p:pic>
        <p:nvPicPr>
          <p:cNvPr id="421" name="图片 9" descr="图7-31  宽布约束带.jpg"/>
          <p:cNvPicPr/>
          <p:nvPr/>
        </p:nvPicPr>
        <p:blipFill>
          <a:blip r:embed="rId2"/>
          <a:stretch/>
        </p:blipFill>
        <p:spPr>
          <a:xfrm>
            <a:off x="2214720" y="4143240"/>
            <a:ext cx="2927160" cy="1689120"/>
          </a:xfrm>
          <a:prstGeom prst="rect">
            <a:avLst/>
          </a:prstGeom>
          <a:ln w="0">
            <a:noFill/>
          </a:ln>
        </p:spPr>
      </p:pic>
      <p:sp>
        <p:nvSpPr>
          <p:cNvPr id="422" name="Text Box 27"/>
          <p:cNvSpPr/>
          <p:nvPr/>
        </p:nvSpPr>
        <p:spPr>
          <a:xfrm>
            <a:off x="5857920" y="4357800"/>
            <a:ext cx="285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宽布约束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Group 16"/>
          <p:cNvGrpSpPr/>
          <p:nvPr/>
        </p:nvGrpSpPr>
        <p:grpSpPr>
          <a:xfrm>
            <a:off x="555480" y="1643040"/>
            <a:ext cx="1521000" cy="3357720"/>
            <a:chOff x="555480" y="1643040"/>
            <a:chExt cx="1521000" cy="3357720"/>
          </a:xfrm>
        </p:grpSpPr>
        <p:sp>
          <p:nvSpPr>
            <p:cNvPr id="424" name="AutoShape 17"/>
            <p:cNvSpPr/>
            <p:nvPr/>
          </p:nvSpPr>
          <p:spPr>
            <a:xfrm>
              <a:off x="1221840" y="16430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" name="Text Box 18"/>
            <p:cNvSpPr/>
            <p:nvPr/>
          </p:nvSpPr>
          <p:spPr>
            <a:xfrm>
              <a:off x="555480" y="1785600"/>
              <a:ext cx="152100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膝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6" name="Text Box 27"/>
          <p:cNvSpPr/>
          <p:nvPr/>
        </p:nvSpPr>
        <p:spPr>
          <a:xfrm>
            <a:off x="3786120" y="5072040"/>
            <a:ext cx="30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膝部约束带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7" name="图片 7" descr="图7-32 膝部约束带.jpg"/>
          <p:cNvPicPr/>
          <p:nvPr/>
        </p:nvPicPr>
        <p:blipFill>
          <a:blip r:embed="rId1"/>
          <a:stretch/>
        </p:blipFill>
        <p:spPr>
          <a:xfrm>
            <a:off x="3286080" y="1785960"/>
            <a:ext cx="42037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Group 16"/>
          <p:cNvGrpSpPr/>
          <p:nvPr/>
        </p:nvGrpSpPr>
        <p:grpSpPr>
          <a:xfrm>
            <a:off x="555480" y="1643040"/>
            <a:ext cx="1521000" cy="3357720"/>
            <a:chOff x="555480" y="1643040"/>
            <a:chExt cx="1521000" cy="3357720"/>
          </a:xfrm>
        </p:grpSpPr>
        <p:sp>
          <p:nvSpPr>
            <p:cNvPr id="429" name="AutoShape 17"/>
            <p:cNvSpPr/>
            <p:nvPr/>
          </p:nvSpPr>
          <p:spPr>
            <a:xfrm>
              <a:off x="1221840" y="16430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0" name="Text Box 18"/>
            <p:cNvSpPr/>
            <p:nvPr/>
          </p:nvSpPr>
          <p:spPr>
            <a:xfrm>
              <a:off x="555480" y="1785600"/>
              <a:ext cx="152100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膝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1" name="Text Box 27"/>
          <p:cNvSpPr/>
          <p:nvPr/>
        </p:nvSpPr>
        <p:spPr>
          <a:xfrm>
            <a:off x="3500280" y="5357880"/>
            <a:ext cx="45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膝部约束带固定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32" name="图片 8" descr="图7-33 膝部约束带固定法.jpg"/>
          <p:cNvPicPr/>
          <p:nvPr/>
        </p:nvPicPr>
        <p:blipFill>
          <a:blip r:embed="rId1"/>
          <a:stretch/>
        </p:blipFill>
        <p:spPr>
          <a:xfrm>
            <a:off x="3429000" y="1285920"/>
            <a:ext cx="442908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Group 16"/>
          <p:cNvGrpSpPr/>
          <p:nvPr/>
        </p:nvGrpSpPr>
        <p:grpSpPr>
          <a:xfrm>
            <a:off x="555480" y="1643040"/>
            <a:ext cx="1521000" cy="3357720"/>
            <a:chOff x="555480" y="1643040"/>
            <a:chExt cx="1521000" cy="3357720"/>
          </a:xfrm>
        </p:grpSpPr>
        <p:sp>
          <p:nvSpPr>
            <p:cNvPr id="434" name="AutoShape 17"/>
            <p:cNvSpPr/>
            <p:nvPr/>
          </p:nvSpPr>
          <p:spPr>
            <a:xfrm>
              <a:off x="1221840" y="16430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" name="Text Box 18"/>
            <p:cNvSpPr/>
            <p:nvPr/>
          </p:nvSpPr>
          <p:spPr>
            <a:xfrm>
              <a:off x="555480" y="1785600"/>
              <a:ext cx="152100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膝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6" name="Text Box 27"/>
          <p:cNvSpPr/>
          <p:nvPr/>
        </p:nvSpPr>
        <p:spPr>
          <a:xfrm>
            <a:off x="2786040" y="5214960"/>
            <a:ext cx="557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膝部约束带大单固定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37" name="图片 7" descr="图7-34 膝部大单固定法.jpg"/>
          <p:cNvPicPr/>
          <p:nvPr/>
        </p:nvPicPr>
        <p:blipFill>
          <a:blip r:embed="rId1"/>
          <a:stretch/>
        </p:blipFill>
        <p:spPr>
          <a:xfrm>
            <a:off x="3357720" y="1285920"/>
            <a:ext cx="407196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Group 16"/>
          <p:cNvGrpSpPr/>
          <p:nvPr/>
        </p:nvGrpSpPr>
        <p:grpSpPr>
          <a:xfrm>
            <a:off x="686520" y="1643040"/>
            <a:ext cx="1399320" cy="4071960"/>
            <a:chOff x="686520" y="1643040"/>
            <a:chExt cx="1399320" cy="4071960"/>
          </a:xfrm>
        </p:grpSpPr>
        <p:sp>
          <p:nvSpPr>
            <p:cNvPr id="439" name="AutoShape 17"/>
            <p:cNvSpPr/>
            <p:nvPr/>
          </p:nvSpPr>
          <p:spPr>
            <a:xfrm>
              <a:off x="1222200" y="1643040"/>
              <a:ext cx="854280" cy="40719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" name="Text Box 18"/>
            <p:cNvSpPr/>
            <p:nvPr/>
          </p:nvSpPr>
          <p:spPr>
            <a:xfrm>
              <a:off x="686520" y="1785600"/>
              <a:ext cx="1399320" cy="38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尼龙搭扣约束带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1" name="Text Box 27"/>
          <p:cNvSpPr/>
          <p:nvPr/>
        </p:nvSpPr>
        <p:spPr>
          <a:xfrm>
            <a:off x="3500280" y="4929120"/>
            <a:ext cx="385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尼龙搭扣约束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42" name="图片 8" descr="图7-35 尼龙搭扣约束带.jpg"/>
          <p:cNvPicPr/>
          <p:nvPr/>
        </p:nvPicPr>
        <p:blipFill>
          <a:blip r:embed="rId1"/>
          <a:stretch/>
        </p:blipFill>
        <p:spPr>
          <a:xfrm>
            <a:off x="3143160" y="2428920"/>
            <a:ext cx="433728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Group 13"/>
          <p:cNvGrpSpPr/>
          <p:nvPr/>
        </p:nvGrpSpPr>
        <p:grpSpPr>
          <a:xfrm>
            <a:off x="118800" y="2286000"/>
            <a:ext cx="1521000" cy="2781360"/>
            <a:chOff x="118800" y="2286000"/>
            <a:chExt cx="1521000" cy="2781360"/>
          </a:xfrm>
        </p:grpSpPr>
        <p:sp>
          <p:nvSpPr>
            <p:cNvPr id="444" name="AutoShape 14"/>
            <p:cNvSpPr/>
            <p:nvPr/>
          </p:nvSpPr>
          <p:spPr>
            <a:xfrm>
              <a:off x="785520" y="2286000"/>
              <a:ext cx="854280" cy="2781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5" name="Text Box 15"/>
            <p:cNvSpPr/>
            <p:nvPr/>
          </p:nvSpPr>
          <p:spPr>
            <a:xfrm>
              <a:off x="118800" y="2803320"/>
              <a:ext cx="1521000" cy="21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支被架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6" name="AutoShape 19"/>
          <p:cNvSpPr/>
          <p:nvPr/>
        </p:nvSpPr>
        <p:spPr>
          <a:xfrm>
            <a:off x="2500200" y="1928880"/>
            <a:ext cx="6120000" cy="4021200"/>
          </a:xfrm>
          <a:prstGeom prst="wedgeRoundRectCallout">
            <a:avLst>
              <a:gd name="adj1" fmla="val -62217"/>
              <a:gd name="adj2" fmla="val -7481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目的：主要用于肢体瘫痪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或极度虚弱的患者，防止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盖被压迫肢体，造成不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和足下垂。也可用于烧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患者的暴露疗法而需要保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暖时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Group 16"/>
          <p:cNvGrpSpPr/>
          <p:nvPr/>
        </p:nvGrpSpPr>
        <p:grpSpPr>
          <a:xfrm>
            <a:off x="555480" y="1643040"/>
            <a:ext cx="1521000" cy="3357720"/>
            <a:chOff x="555480" y="1643040"/>
            <a:chExt cx="1521000" cy="3357720"/>
          </a:xfrm>
        </p:grpSpPr>
        <p:sp>
          <p:nvSpPr>
            <p:cNvPr id="448" name="AutoShape 17"/>
            <p:cNvSpPr/>
            <p:nvPr/>
          </p:nvSpPr>
          <p:spPr>
            <a:xfrm>
              <a:off x="1221840" y="16430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" name="Text Box 18"/>
            <p:cNvSpPr/>
            <p:nvPr/>
          </p:nvSpPr>
          <p:spPr>
            <a:xfrm>
              <a:off x="555480" y="2214360"/>
              <a:ext cx="152100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支被架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50" name="Text Box 27"/>
          <p:cNvSpPr/>
          <p:nvPr/>
        </p:nvSpPr>
        <p:spPr>
          <a:xfrm>
            <a:off x="4572000" y="5357880"/>
            <a:ext cx="214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支被架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1" name="图片 8" descr="图7-36 支被架.jpg"/>
          <p:cNvPicPr/>
          <p:nvPr/>
        </p:nvPicPr>
        <p:blipFill>
          <a:blip r:embed="rId1"/>
          <a:stretch/>
        </p:blipFill>
        <p:spPr>
          <a:xfrm>
            <a:off x="3786120" y="1357200"/>
            <a:ext cx="3075120" cy="40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 Box 16"/>
          <p:cNvSpPr/>
          <p:nvPr/>
        </p:nvSpPr>
        <p:spPr>
          <a:xfrm>
            <a:off x="500040" y="1285920"/>
            <a:ext cx="501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3" name="Rectangle 1"/>
          <p:cNvSpPr/>
          <p:nvPr/>
        </p:nvSpPr>
        <p:spPr>
          <a:xfrm>
            <a:off x="2046960" y="1897200"/>
            <a:ext cx="5049720" cy="3932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掌握约束带应用的适应证，维护患者自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约束带只可短期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时，约束带下垫衬垫，松紧要适宜，并定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松解，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放松约束带一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录使用保护具的原因、时间、观察结果、相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护理措施及解除约束的时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1"/>
          <p:cNvSpPr/>
          <p:nvPr/>
        </p:nvSpPr>
        <p:spPr>
          <a:xfrm>
            <a:off x="1000080" y="2236680"/>
            <a:ext cx="6929640" cy="2013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随时评价保护具使用情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确保患者能随时与医务人员或陪护人员取得联系，保障患者的安全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357680" y="285840"/>
            <a:ext cx="142884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宋体"/>
              </a:rPr>
              <a:t>小结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42600" y="1571760"/>
            <a:ext cx="818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患者卧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疼痛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患者安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9680" y="1143000"/>
            <a:ext cx="44290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中凹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85840" y="1857240"/>
            <a:ext cx="500040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休克患者。抬高头胸部，有利于保持气道通畅，改善缺氧症状；抬高下肢，有利于静脉血回流，增加心排出量而使休克症状得到缓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5429160" y="4214880"/>
            <a:ext cx="35006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中凹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4" name="剪贴画占位符 8" descr="图7-2 中凹卧位.jpg"/>
          <p:cNvPicPr/>
          <p:nvPr/>
        </p:nvPicPr>
        <p:blipFill>
          <a:blip r:embed="rId2"/>
          <a:stretch/>
        </p:blipFill>
        <p:spPr>
          <a:xfrm>
            <a:off x="5357880" y="2571840"/>
            <a:ext cx="347328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571800" y="357120"/>
            <a:ext cx="235764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宋体"/>
              </a:rPr>
              <a:t>测试题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180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妊娠时胎膜早破，为防止脐带脱垂，应嘱孕妇采取（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膝胸卧位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头高足低位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头低足高位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截石位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侧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" dur="1000" fill="hold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8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支气管哮喘发作时，患者应采取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屈膝仰卧位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膝胸位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端坐位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侧卧位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俯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" dur="2000" fill="hold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539640" y="1341360"/>
            <a:ext cx="818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下列关于护士为患者翻身时的注意事项错误的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护士应注意节力原则，尽量让患者靠近护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移动患者时动作应轻稳，协调一致，不可拖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皮肤发红应及时处理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手术患者敷料脱落应翻身后及时更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保持各种导管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" dur="2000" fill="hold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180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张某，男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19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大一学生，因准备期末考试，连续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天挑灯夜战后，出现剧烈头痛，以下不属于其疼痛原因的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身体组织受牵连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情绪紧张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疲劳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睡眠不足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用脑过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" dur="2000" fill="hold"/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患儿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左下肢骨癌住院。为准确地评估患肢的疼痛程度，护士最好选用的评估工具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面部表情疼痛评定法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文字描述评定法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数字评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视觉模拟评分法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Prince-Henry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评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" dur="2000" fill="hold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患者，男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54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胃大部分切除术后第二天，针对该患者术后疼痛护理措施，不妥的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手术前教会患者深呼吸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病情稳定可给予半坐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可按压伤口后再咳嗽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影响睡眠时可以酌情使用止痛药，并报告医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马上使用阿片类止痛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" dur="2000" fill="hold"/>
                                        <p:tgtEl>
                                          <p:spTgt spid="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3581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患者，男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30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双腿不慎被开水烫伤，可考虑为其选用的保护具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支被架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床档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肩部约束带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腕部约束带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踝部约束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" dur="2000" fill="hold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8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有关保护具的应用，错误的一项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使用前向患者家属解释清楚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安置舒适的位置，经常更换卧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扎紧约束带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注意观察受约束部位的末梢循环情况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必要时对约束部位进行局部按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" dur="2000" fill="hold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786720" y="214200"/>
            <a:ext cx="235728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宋体"/>
              </a:rPr>
              <a:t>思考题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患者，女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45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因交通意外致颈椎骨折，右侧面部擦伤，失血约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，经救治后病情稳定，今日已行颅骨牵引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请问：应为患者安置哪种体位？应按什么样的要求进行安置？采用该体位的目的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患者，男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56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退休工人，诊断“肺癌晚期”入院，患者主诉胸痛难以忍受，眉头紧锁，剧烈咳嗽并伴有气喘，烦躁不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请问：应选用哪种评估工具评估该患者的疼痛程度？护士在收集资料时，应了解哪些影响其疼痛的因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dell</cp:lastModifiedBy>
  <dcterms:modified xsi:type="dcterms:W3CDTF">2016-01-07T02:18:23Z</dcterms:modified>
  <cp:revision>289</cp:revision>
  <dc:subject/>
  <dc:title>内科护理学</dc:title>
</cp:coreProperties>
</file>